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B762-B96E-4333-80C2-DC2133D93D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730F-F51B-4D38-9AAC-BD6A4537D93F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A49-AD46-4F9C-B917-22EC2D3A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6EF-9A47-4C0F-AB70-56503385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2DE-D405-4604-BDE5-00B01D3E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A8B-EF5E-4B67-ABE2-61F9748E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FFC4-DF02-4F36-B36E-7CD00299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B52F-8D97-4447-BDB6-FC2FAE72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808F-970E-405F-BDFF-611CDD3F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A2EC-CB8A-48A9-97AF-3ADA0145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4D62-9C64-41B5-A68A-0EE4B449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A76D-0F9D-454A-8532-32864556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DECC-95D3-41E5-90F8-A641A08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B86-2EF5-42A1-9822-74D0C0D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C5AB-2623-4F40-9550-2EC0A2FB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48E8-AE6E-4FB8-A9A7-3A85ED3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C9B-ED72-4B29-ABA5-D3F1E12B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32AD-9B92-4D71-946F-129357B0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9352-1BAA-44CC-91C8-AEA8717C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E373-4EDB-4AEB-8A26-34BBE5C7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4151-EAB0-40F6-BABB-E9F9C899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EBCD-B889-4FC4-896B-E43A07DA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F241A-84C2-4BE2-AD64-789BEAA1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31BD-C0AC-4CF2-BEA1-4B295449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A6E-C25C-4788-9D81-2F5E2DF7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0660-21D5-43CA-8F8C-B50BBF19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1EBE-3740-43A4-8957-A36BF31F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3B95-0973-4A18-AB39-93DF0D7D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CA69-AFFE-4211-A8A6-203656A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8B7C-990D-40CD-AFB2-D49DA4E8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7ACA-DB4B-413A-AB5F-396E7B24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57D6-49BB-4796-B23E-F093EE03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E06B2-3BAF-419B-8B59-81760759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4D78-017E-4047-BF84-B4AE6F9C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F796-9463-40B0-A129-9A7FDDD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19B-DE74-4E07-81F9-45FA16F2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5810-3699-4A33-8176-957598EC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9F7F6-8B2B-4772-BB3B-C9940E71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E5200-DA1D-42AB-B1FC-396B5E66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85155-0C76-4675-8C67-222476DD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B7546-35A5-4564-8911-BEF2FEBF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E34C-4086-41C6-9928-87FAE1C1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61551-B1F3-4EE2-82B5-9F093055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2254B-1750-4FE8-8C89-E5ACF1E1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AE9F-7D53-4A2C-8597-2783184A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FDDC2-5384-4FD2-982B-641FCB02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7B4-40CF-4401-AE61-731290D4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1814-CD72-4D32-9997-242922E5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E0ECA-BF47-406A-87C5-17CCDF0F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0588D-4D6A-4A9C-A3F6-0FE2412C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FD367-3B04-4B0B-BE0F-66C62D7A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AA035-5A7D-4868-80C9-A21B4673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6492B-9E58-4A6A-8B40-6D2F3ED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C9C92-DDC5-4B3B-8CF2-9E1365C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2C37-C1F8-4D77-B3C7-AD49C84E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09A4-DDCE-4050-9F2D-664EFD0C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BD65-C68B-4166-962C-2CFFFA95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5DE-130E-4DA2-846B-6D0ABB0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41C6-DDF4-4AC5-ACD8-13ABF4F5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1A1D3-1B58-401F-87E5-DEC73275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7DCAD-9E7E-48FF-9F7E-EC8619AB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7B5F0-C5C8-4373-B453-FAA9F68D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F71FD-583F-45B6-8AE5-02FFD47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00D07-61E5-421D-AA12-1F457411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9596F-5E79-46A2-9F36-134D4C7F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A3F93-0219-4BED-B9AD-8D4B3448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FF67E-66A5-4846-85E9-88FF8E34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852F1-41AC-4EB7-B6FC-EAA0D4BB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D38-5971-49EA-870A-C038A00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2AF83-49F6-4027-9B15-E24F7EBE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A0B97-C73C-4C2F-982F-A66BDF22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B3FC-2144-4090-A268-A606ECFF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98A-0DB3-4FE5-BA1F-D80B85EE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EF8-2942-4DF2-88F2-F1A259AF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dd6f5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orma livre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c0f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d7e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d7e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2DAA-CEAC-45DF-88DA-C957194A4B76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7d8c"/>
            </a:gs>
            <a:gs pos="100000">
              <a:srgbClr val="f6c5d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rma livre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dd6f5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orma livre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c0f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d7e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d7e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73CA-3245-4B83-94B2-73644251F219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7d8c"/>
            </a:gs>
            <a:gs pos="100000">
              <a:srgbClr val="f6c5d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rma livre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dd6f5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orma livre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c0f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d7e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d7e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B0A0-F923-41CF-B076-BA6A0CD75328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d7e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d7e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E296-6065-42CB-8E05-AE2F84E96E90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rma livre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dd6f5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orma livre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c0f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d7e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d7e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E1E1-AF22-4EAD-97D2-C4A97056256B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d7e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d7e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c66bb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6c3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9b63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1A69-56D4-47A4-A32D-6E192E32D33D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7d8c"/>
            </a:gs>
            <a:gs pos="100000">
              <a:srgbClr val="f6c5d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0" y="1052640"/>
            <a:ext cx="896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valiação do Perfil dos profissionais de enfermagem e das habilidades para a atenção à mulher no ciclo gravídico-puerperal no Brasi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95280" y="515772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31f48"/>
                </a:solidFill>
                <a:latin typeface="Comic Sans MS"/>
              </a:rPr>
              <a:t>Marli Villela Mame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31f48"/>
                </a:solidFill>
                <a:latin typeface="Comic Sans MS"/>
              </a:rPr>
              <a:t>Escola de Enfermagem de Ribeirão Preto-U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6"/>
          <p:cNvSpPr/>
          <p:nvPr/>
        </p:nvSpPr>
        <p:spPr>
          <a:xfrm>
            <a:off x="324000" y="1341360"/>
            <a:ext cx="864072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Locais de prática para o cuidado obstétric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mic Sans MS"/>
                <a:ea typeface="MS PGothic"/>
              </a:rPr>
              <a:t> </a:t>
            </a:r>
            <a:r>
              <a:rPr b="1" lang="pt-BR" sz="2400" spc="-1" strike="noStrike">
                <a:solidFill>
                  <a:srgbClr val="7f7f7f"/>
                </a:solidFill>
                <a:latin typeface="Comic Sans MS"/>
                <a:ea typeface="MS PGothic"/>
              </a:rPr>
              <a:t>Hospitais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r>
              <a:rPr b="1" lang="pt-BR" sz="2400" spc="-1" strike="noStrike">
                <a:solidFill>
                  <a:srgbClr val="531f48"/>
                </a:solidFill>
                <a:latin typeface="Comic Sans MS"/>
                <a:ea typeface="MS PGothic"/>
              </a:rPr>
              <a:t>( enfermeiras, auxiliares e técnicos de enfermag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r>
              <a:rPr b="1" lang="pt-BR" sz="2400" spc="-1" strike="noStrike">
                <a:solidFill>
                  <a:srgbClr val="7f7f7f"/>
                </a:solidFill>
                <a:latin typeface="Comic Sans MS"/>
                <a:ea typeface="MS PGothic"/>
              </a:rPr>
              <a:t>Unidades Básicas de Saúde, Centros de Saúde, Postos de Saúde da Família</a:t>
            </a:r>
            <a:r>
              <a:rPr b="0" lang="pt-BR" sz="2400" spc="-1" strike="noStrike">
                <a:solidFill>
                  <a:srgbClr val="7f7f7f"/>
                </a:solidFill>
                <a:latin typeface="Comic Sans MS"/>
                <a:ea typeface="MS PGothic"/>
              </a:rPr>
              <a:t> </a:t>
            </a:r>
            <a:r>
              <a:rPr b="1" lang="pt-BR" sz="2400" spc="-1" strike="noStrike">
                <a:solidFill>
                  <a:srgbClr val="531f48"/>
                </a:solidFill>
                <a:latin typeface="Comic Sans MS"/>
                <a:ea typeface="MS PGothic"/>
              </a:rPr>
              <a:t>(enfermeiras, auxiliares e técnicos de enfermag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 </a:t>
            </a:r>
            <a:r>
              <a:rPr b="1" lang="pt-BR" sz="2400" spc="-1" strike="noStrike">
                <a:solidFill>
                  <a:srgbClr val="7f7f7f"/>
                </a:solidFill>
                <a:latin typeface="Comic Sans MS"/>
                <a:ea typeface="MS PGothic"/>
              </a:rPr>
              <a:t>Domicílio rural</a:t>
            </a:r>
            <a:r>
              <a:rPr b="0" lang="pt-BR" sz="2400" spc="-1" strike="noStrike">
                <a:solidFill>
                  <a:srgbClr val="7f7f7f"/>
                </a:solidFill>
                <a:latin typeface="Comic Sans MS"/>
                <a:ea typeface="MS PGothic"/>
              </a:rPr>
              <a:t>: </a:t>
            </a:r>
            <a:r>
              <a:rPr b="1" lang="pt-BR" sz="2400" spc="-1" strike="noStrike">
                <a:solidFill>
                  <a:srgbClr val="531f48"/>
                </a:solidFill>
                <a:latin typeface="Comic Sans MS"/>
                <a:ea typeface="MS PGothic"/>
              </a:rPr>
              <a:t>( parteiras tradicionais)</a:t>
            </a:r>
            <a:r>
              <a:rPr b="1" lang="pt-BR" sz="1800" spc="-1" strike="noStrike">
                <a:solidFill>
                  <a:srgbClr val="531f48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Obstétrica - Floresta Acriana- região do Juruá/Acre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ciclo gravídico-puerperal na Floresta Acriana- região do Juruá/Acr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379520"/>
            <a:ext cx="8640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7f7f7f"/>
                </a:solidFill>
                <a:uFillTx/>
                <a:latin typeface="Comic Sans MS"/>
              </a:rPr>
              <a:t>Enfermei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- 25% assistência pré-na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- 18% assistência ao parto ( 3 enf. obstétr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- Educação em Saúde: Planejamento familiar, ginecologia,coleta de Papanicol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7f7f7f"/>
                </a:solidFill>
                <a:uFillTx/>
                <a:latin typeface="Comic Sans MS"/>
              </a:rPr>
              <a:t>Auxiliares e Técnicos de Enferm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  <a:ea typeface="MS PGothic"/>
              </a:rPr>
              <a:t>- </a:t>
            </a: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assistência ao </a:t>
            </a:r>
            <a:r>
              <a:rPr b="1" lang="pt-BR" sz="2400" spc="-1" strike="noStrike">
                <a:solidFill>
                  <a:srgbClr val="531f48"/>
                </a:solidFill>
                <a:latin typeface="Comic Sans MS"/>
                <a:ea typeface="MS PGothic"/>
              </a:rPr>
              <a:t>parto, pós-parto (Mâncio Lima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  <a:ea typeface="MS PGothic"/>
              </a:rPr>
              <a:t>- Educação em Saúde: planejamento familiar e na atenção ginecológica, coleta de Papanicol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7f7f7f"/>
                </a:solidFill>
                <a:uFillTx/>
                <a:latin typeface="Comic Sans MS"/>
              </a:rPr>
              <a:t>Parteiras Tradicion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-assistência ao parto, pós parto e recém nas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omic Sans MS"/>
              </a:rPr>
              <a:t>Ações desenvolvidas durante pré-n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Ausência de normas/protocolos escritos para a condução da prática pré-nat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É uma prática eventual, não sistematiz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0" y="3798720"/>
            <a:ext cx="914400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omic Sans MS"/>
              </a:rPr>
              <a:t>Ações desenvolvidas durante o pa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Ausência de protoco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áticas consideradas danosas à saúde materna e neona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ande parte das competências essenciais não são desenvov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5148360" y="3716280"/>
            <a:ext cx="39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CaixaDeTexto 7"/>
          <p:cNvSpPr/>
          <p:nvPr/>
        </p:nvSpPr>
        <p:spPr>
          <a:xfrm>
            <a:off x="0" y="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loresta Acriana- Juruá/A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35344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As parteiras tradicionais encontram limites técnico, científico, financeiro e de acesso aos serviços de referência, que as levam a conviver com riscos de morte materna e neonatal, mesmo quando identificam fatores de risco na gestação ou no parto</a:t>
            </a: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0" y="333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enção Obstétrica na Floresta Acre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36360">
              <a:lnSpc>
                <a:spcPct val="100000"/>
              </a:lnSpc>
              <a:spcBef>
                <a:spcPts val="751"/>
              </a:spcBef>
              <a:buClr>
                <a:srgbClr val="f0d7eb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36360">
              <a:lnSpc>
                <a:spcPct val="100000"/>
              </a:lnSpc>
              <a:spcBef>
                <a:spcPts val="751"/>
              </a:spcBef>
              <a:buClr>
                <a:srgbClr val="f0d7eb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50920" y="4149720"/>
            <a:ext cx="2433600" cy="916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0033"/>
                </a:solidFill>
                <a:latin typeface="Comic Sans MS"/>
                <a:ea typeface="MS PGothic"/>
              </a:rPr>
              <a:t>favorecem o isolamento dos povos da flor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5867280" y="3860640"/>
            <a:ext cx="3025800" cy="11912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mic Sans MS"/>
              </a:rPr>
              <a:t>entraves para a permanência de profissionais de saúde na flore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3132000" y="4076640"/>
            <a:ext cx="2376720" cy="916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0033"/>
                </a:solidFill>
                <a:latin typeface="Comic Sans MS"/>
                <a:ea typeface="MS PGothic"/>
              </a:rPr>
              <a:t>a falta de atendimento reg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0" y="551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Reflete de forma negativa na qualidade da atenção oferecida a mulher no ciclo gravídico-puerp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6836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Obstétrica na Floresta Acre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216000" y="1341360"/>
            <a:ext cx="4284720" cy="642600"/>
          </a:xfrm>
          <a:prstGeom prst="rect">
            <a:avLst/>
          </a:prstGeom>
          <a:solidFill>
            <a:srgbClr val="eee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mic Sans MS"/>
              </a:rPr>
              <a:t>Dificuldades de acesso aos meios de comunicação (rádio e televisã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395280" y="2492280"/>
            <a:ext cx="2808360" cy="916920"/>
          </a:xfrm>
          <a:prstGeom prst="rect">
            <a:avLst/>
          </a:prstGeom>
          <a:solidFill>
            <a:srgbClr val="eee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mic Sans MS"/>
              </a:rPr>
              <a:t>- o custo de vida elevado nessas regi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5796000" y="2492280"/>
            <a:ext cx="2719440" cy="642600"/>
          </a:xfrm>
          <a:prstGeom prst="rect">
            <a:avLst/>
          </a:prstGeom>
          <a:solidFill>
            <a:srgbClr val="eee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mic Sans MS"/>
              </a:rPr>
              <a:t>- Precárias condições de acesso à flor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4859280" y="1268280"/>
            <a:ext cx="4067280" cy="916920"/>
          </a:xfrm>
          <a:prstGeom prst="rect">
            <a:avLst/>
          </a:prstGeom>
          <a:solidFill>
            <a:srgbClr val="eee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mic Sans MS"/>
              </a:rPr>
              <a:t>- limitados recursos financeiros, materiais e humanos destinados aos serviços de saúd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606680" y="2291400"/>
            <a:ext cx="5498640" cy="320040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31f48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531f48"/>
                </a:solidFill>
                <a:latin typeface="Comic Sans MS"/>
              </a:rPr>
              <a:t>03 (3%) dos profissionais de enfermagem atendem ao perfil traçado pela definição de profissional qualificado ao parto da OMS/ICM/FI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31f48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531f48"/>
                </a:solidFill>
                <a:latin typeface="Comic Sans MS"/>
              </a:rPr>
              <a:t>WHO, 200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46836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Obstétrica na Floresta Acre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6"/>
          <p:cNvSpPr/>
          <p:nvPr/>
        </p:nvSpPr>
        <p:spPr>
          <a:xfrm>
            <a:off x="1095480" y="3803760"/>
            <a:ext cx="671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468360" y="40464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179280" y="1844640"/>
            <a:ext cx="878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Idade média de 34,3 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Carga horária semanal de trabalho: 53,26 h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02 (11,76%) são enfermeiras obstétr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Tempo médio de trabalho na assistência pré-natal: 54,1 m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52,17% têm mais de um empr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tângulo 4"/>
          <p:cNvSpPr/>
          <p:nvPr/>
        </p:nvSpPr>
        <p:spPr>
          <a:xfrm>
            <a:off x="4284720" y="836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squis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Dotto,L.M.G.;Cunha,M.A.;Mamede,M.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71928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– Rio Branco/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peamento dos Serviços de Obstetrícia nas Américas e no Caribe</a:t>
            </a:r>
            <a:br>
              <a:rPr sz="42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MS/OPS//ICM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1f48"/>
                </a:solidFill>
                <a:latin typeface="Comic Sans MS"/>
              </a:rPr>
              <a:t>a atenção qualificada durante o parto é fundamental para tornar a gravidez e parto mais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7f7f"/>
                </a:solidFill>
                <a:latin typeface="Comic Sans MS"/>
              </a:rPr>
              <a:t>Objetiv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531f48"/>
                </a:solidFill>
                <a:latin typeface="Comic Sans MS"/>
              </a:rPr>
              <a:t>delinear as práticas e os serviços de obstetrícia/ parteiras nas Amér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31f48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531f48"/>
                </a:solidFill>
                <a:latin typeface="Comic Sans MS"/>
              </a:rPr>
              <a:t>identificar o pessoal qualificado na atenção à mulher no ciclo grávido puerper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31f48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531f48"/>
                </a:solidFill>
                <a:latin typeface="Comic Sans MS"/>
              </a:rPr>
              <a:t>identificar os modelos de prestação de atenção ao par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539640" y="39337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68360" y="836640"/>
            <a:ext cx="8136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Grande parte das competências essenciais para o atendimento pré-natal são desenvolv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f7f7f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7f7f7f"/>
                </a:solidFill>
                <a:latin typeface="Comic Sans MS"/>
              </a:rPr>
              <a:t>Procedimentos não realizados:</a:t>
            </a:r>
            <a:r>
              <a:rPr b="0" lang="pt-BR" sz="2400" spc="-1" strike="noStrike">
                <a:solidFill>
                  <a:srgbClr val="7f7f7f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ações educativas, inspeção dos genitais externos, exame especular e coleta de Papanicola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1928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– Rio Branco/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452960" y="2007720"/>
            <a:ext cx="5804640" cy="287532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611280" y="2492280"/>
            <a:ext cx="770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1f48"/>
                </a:solidFill>
                <a:latin typeface="Comic Sans MS"/>
              </a:rPr>
              <a:t>O desenvolvimento das competências essenciais para a assistência pré-natal pelos profissionais de enfermagem faz parte da realidade estud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71928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– Rio Branco/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250920" y="920880"/>
            <a:ext cx="8353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f48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31f48"/>
                </a:solidFill>
                <a:latin typeface="Comic Sans MS"/>
              </a:rPr>
              <a:t>idade média  41 an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f48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31f48"/>
                </a:solidFill>
                <a:latin typeface="Comic Sans MS"/>
              </a:rPr>
              <a:t>a carga horária semanal: 63 h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f48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31f48"/>
                </a:solidFill>
                <a:latin typeface="Comic Sans MS"/>
              </a:rPr>
              <a:t>40% dos profissionais trabalham em mais de uma institui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f48"/>
                </a:solidFill>
                <a:latin typeface="Comic Sans MS"/>
              </a:rPr>
              <a:t>tempo de experiência na área: mais de 10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71928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arto – Rio Branco/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72% (18) dos profissionais receberam educação inform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O parto normal é realizado por: pessoal de enfermagem de nível médio, enfermeira obstétrica e pelo médic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Algumas práticas obstétricas recomendadas pela OMS são adotadas pelas matern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71928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arto – Rio Branco/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88930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 algn="just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Muitas das </a:t>
            </a:r>
            <a:r>
              <a:rPr b="1" lang="pt-BR" sz="2800" spc="-1" strike="noStrike" u="sng">
                <a:solidFill>
                  <a:srgbClr val="660033"/>
                </a:solidFill>
                <a:uFillTx/>
                <a:latin typeface="Comic Sans MS"/>
              </a:rPr>
              <a:t>competências</a:t>
            </a: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 essenciais para o atendimento ao trabalho de parto e parto </a:t>
            </a:r>
            <a:r>
              <a:rPr b="1" i="1" lang="pt-BR" sz="2800" spc="-1" strike="noStrike" u="sng">
                <a:solidFill>
                  <a:srgbClr val="660033"/>
                </a:solidFill>
                <a:uFillTx/>
                <a:latin typeface="Comic Sans MS"/>
              </a:rPr>
              <a:t>não são</a:t>
            </a: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 desenvolvidas ou são realizadas de forma incomp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 algn="just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A utilização de práticas baseadas em evidências científicas atualizadas necessita ser incent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 algn="just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Inexiste a prática do uso de </a:t>
            </a:r>
            <a:r>
              <a:rPr b="1" lang="pt-BR" sz="2800" spc="-1" strike="noStrike" u="sng">
                <a:solidFill>
                  <a:srgbClr val="660033"/>
                </a:solidFill>
                <a:uFillTx/>
                <a:latin typeface="Comic Sans MS"/>
              </a:rPr>
              <a:t>partograma</a:t>
            </a: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 nas instituições estud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 algn="just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O modelo de atenção materna </a:t>
            </a:r>
            <a:r>
              <a:rPr b="1" lang="pt-BR" sz="2800" spc="-1" strike="noStrike" u="sng">
                <a:solidFill>
                  <a:srgbClr val="660033"/>
                </a:solidFill>
                <a:uFillTx/>
                <a:latin typeface="Comic Sans MS"/>
              </a:rPr>
              <a:t>não prioriza a qualificação</a:t>
            </a: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 profis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71928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arto – Rio Branco/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482760" y="1042920"/>
            <a:ext cx="819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468360" y="1413000"/>
            <a:ext cx="68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50920" y="1773360"/>
            <a:ext cx="8281800" cy="3671640"/>
          </a:xfrm>
          <a:prstGeom prst="ellipse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324000" y="278136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07 (28%) dos profissionais de enfermagem atendem ao perfil traçado pela definição de profissional qualificado ao parto da OMS/ICM/FI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WHO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719280" y="26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arto – Rio Branco/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Imagem 5" descr="mg-brasil.jpg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913040"/>
          </a:xfrm>
          <a:prstGeom prst="rect">
            <a:avLst/>
          </a:prstGeom>
          <a:ln w="0">
            <a:noFill/>
          </a:ln>
        </p:spPr>
      </p:pic>
      <p:pic>
        <p:nvPicPr>
          <p:cNvPr id="381" name="Imagem 3" descr="mapa-minas.jpg"/>
          <p:cNvPicPr/>
          <p:nvPr/>
        </p:nvPicPr>
        <p:blipFill>
          <a:blip r:embed="rId2"/>
          <a:stretch/>
        </p:blipFill>
        <p:spPr>
          <a:xfrm>
            <a:off x="468360" y="1268280"/>
            <a:ext cx="6696000" cy="5150160"/>
          </a:xfrm>
          <a:prstGeom prst="rect">
            <a:avLst/>
          </a:prstGeom>
          <a:ln w="0">
            <a:noFill/>
          </a:ln>
        </p:spPr>
      </p:pic>
      <p:sp>
        <p:nvSpPr>
          <p:cNvPr id="382" name="Estrela de 5 pontas 7"/>
          <p:cNvSpPr/>
          <p:nvPr/>
        </p:nvSpPr>
        <p:spPr>
          <a:xfrm>
            <a:off x="3492360" y="5157720"/>
            <a:ext cx="432000" cy="35892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0" y="18900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lfenas -  Minas Gera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859280" y="1341360"/>
            <a:ext cx="428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squisadore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res,E.;Clapis,M.J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c1d"/>
                </a:solidFill>
                <a:latin typeface="Comic Sans MS"/>
              </a:rPr>
              <a:t>Atenção ao Parto –Alfenas/M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95280" y="2217600"/>
            <a:ext cx="850752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5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91,7% sexo femin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58,3% mais de 6 anos de form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25% mais de um empr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00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45,8% mais de 5 anos experiência na á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1314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O parto normal é realizado por: pessoal de enfermagem de nível médio e pelo méd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Muitas das competências essenciais para o atendimento ao trabalho de parto e parto não são desenvolvidas ou são realizadas de forma incomp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As ações mais freqüentes: anamnese,BCF e toque va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Práticas consideradas maléficas frequentes: manobra de Kriste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c1d"/>
                </a:solidFill>
                <a:latin typeface="Comic Sans MS"/>
              </a:rPr>
              <a:t>Atenção ao Parto –Alfenas/M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586880" y="2240280"/>
            <a:ext cx="5754240" cy="295344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Atenção Qualific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464328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900000" y="3141720"/>
            <a:ext cx="74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Os profissionais de enfermagem não atendem ao perfil traçado pela definição de profissional qualificado ao parto da OMS/ICM/FI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WHO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c1d"/>
                </a:solidFill>
                <a:latin typeface="Comic Sans MS"/>
              </a:rPr>
              <a:t>Atenção ao Parto –Alfenas/M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1704960" y="1617840"/>
            <a:ext cx="5076720" cy="5087880"/>
            <a:chOff x="1704960" y="1617840"/>
            <a:chExt cx="5076720" cy="5087880"/>
          </a:xfrm>
        </p:grpSpPr>
        <p:sp>
          <p:nvSpPr>
            <p:cNvPr id="266" name="Freeform 3"/>
            <p:cNvSpPr/>
            <p:nvPr/>
          </p:nvSpPr>
          <p:spPr>
            <a:xfrm>
              <a:off x="1704960" y="1617840"/>
              <a:ext cx="3616200" cy="24732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4"/>
            <p:cNvSpPr/>
            <p:nvPr/>
          </p:nvSpPr>
          <p:spPr>
            <a:xfrm>
              <a:off x="4978440" y="2476800"/>
              <a:ext cx="1803240" cy="22446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"/>
            <p:cNvSpPr/>
            <p:nvPr/>
          </p:nvSpPr>
          <p:spPr>
            <a:xfrm>
              <a:off x="4424400" y="4125960"/>
              <a:ext cx="1727280" cy="14572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6"/>
            <p:cNvSpPr/>
            <p:nvPr/>
          </p:nvSpPr>
          <p:spPr>
            <a:xfrm>
              <a:off x="3838680" y="5234040"/>
              <a:ext cx="1199880" cy="14716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7"/>
            <p:cNvSpPr/>
            <p:nvPr/>
          </p:nvSpPr>
          <p:spPr>
            <a:xfrm>
              <a:off x="3324240" y="3260880"/>
              <a:ext cx="2027160" cy="22226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Text Box 8"/>
          <p:cNvSpPr/>
          <p:nvPr/>
        </p:nvSpPr>
        <p:spPr>
          <a:xfrm>
            <a:off x="3252960" y="3048120"/>
            <a:ext cx="30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50,3 por cem m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nascidos v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3838680" y="5234040"/>
            <a:ext cx="1199880" cy="1471680"/>
            <a:chOff x="3838680" y="5234040"/>
            <a:chExt cx="1199880" cy="1471680"/>
          </a:xfrm>
        </p:grpSpPr>
        <p:sp>
          <p:nvSpPr>
            <p:cNvPr id="273" name="Freeform 10"/>
            <p:cNvSpPr/>
            <p:nvPr/>
          </p:nvSpPr>
          <p:spPr>
            <a:xfrm>
              <a:off x="3838680" y="5234040"/>
              <a:ext cx="1199880" cy="14716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4091040" y="555156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Su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56,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3324240" y="3260880"/>
            <a:ext cx="2063880" cy="2222280"/>
            <a:chOff x="3324240" y="3260880"/>
            <a:chExt cx="2063880" cy="2222280"/>
          </a:xfrm>
        </p:grpSpPr>
        <p:sp>
          <p:nvSpPr>
            <p:cNvPr id="276" name="Freeform 13"/>
            <p:cNvSpPr/>
            <p:nvPr/>
          </p:nvSpPr>
          <p:spPr>
            <a:xfrm>
              <a:off x="3324240" y="3260880"/>
              <a:ext cx="2027160" cy="22222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3330720" y="391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Centro-Oes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60,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1704960" y="1617840"/>
            <a:ext cx="3616200" cy="2473200"/>
            <a:chOff x="1704960" y="1617840"/>
            <a:chExt cx="3616200" cy="2473200"/>
          </a:xfrm>
        </p:grpSpPr>
        <p:sp>
          <p:nvSpPr>
            <p:cNvPr id="279" name="Freeform 16"/>
            <p:cNvSpPr/>
            <p:nvPr/>
          </p:nvSpPr>
          <p:spPr>
            <a:xfrm>
              <a:off x="1704960" y="1617840"/>
              <a:ext cx="3616200" cy="2473200"/>
            </a:xfrm>
            <a:prstGeom prst="pi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17"/>
            <p:cNvSpPr/>
            <p:nvPr/>
          </p:nvSpPr>
          <p:spPr>
            <a:xfrm>
              <a:off x="2876400" y="23479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No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53,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18"/>
          <p:cNvGrpSpPr/>
          <p:nvPr/>
        </p:nvGrpSpPr>
        <p:grpSpPr>
          <a:xfrm>
            <a:off x="4424400" y="4125960"/>
            <a:ext cx="1738080" cy="1457280"/>
            <a:chOff x="4424400" y="4125960"/>
            <a:chExt cx="1738080" cy="1457280"/>
          </a:xfrm>
        </p:grpSpPr>
        <p:sp>
          <p:nvSpPr>
            <p:cNvPr id="282" name="Freeform 19"/>
            <p:cNvSpPr/>
            <p:nvPr/>
          </p:nvSpPr>
          <p:spPr>
            <a:xfrm>
              <a:off x="4424400" y="4125960"/>
              <a:ext cx="1726920" cy="1457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4714920" y="459756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udes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45,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21"/>
          <p:cNvGrpSpPr/>
          <p:nvPr/>
        </p:nvGrpSpPr>
        <p:grpSpPr>
          <a:xfrm>
            <a:off x="4978440" y="2476440"/>
            <a:ext cx="1803240" cy="2244960"/>
            <a:chOff x="4978440" y="2476440"/>
            <a:chExt cx="1803240" cy="2244960"/>
          </a:xfrm>
        </p:grpSpPr>
        <p:sp>
          <p:nvSpPr>
            <p:cNvPr id="285" name="Freeform 22"/>
            <p:cNvSpPr/>
            <p:nvPr/>
          </p:nvSpPr>
          <p:spPr>
            <a:xfrm>
              <a:off x="4978440" y="2476440"/>
              <a:ext cx="1803240" cy="2244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238720" y="29574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Nordes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60,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 Box 24"/>
          <p:cNvSpPr/>
          <p:nvPr/>
        </p:nvSpPr>
        <p:spPr>
          <a:xfrm>
            <a:off x="0" y="272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peamento dos Serviços de Obstetrícia nas Américas e no Caribe: estudo de caso no Bra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227640" y="6093000"/>
            <a:ext cx="25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BRASIL, 2004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6095880" y="1700280"/>
            <a:ext cx="3048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5c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1f48"/>
                </a:solidFill>
                <a:latin typeface="Comic Sans MS"/>
              </a:rPr>
              <a:t>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1f48"/>
                </a:solidFill>
                <a:latin typeface="Comic Sans MS"/>
              </a:rPr>
              <a:t>50,3 por cem m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1f48"/>
                </a:solidFill>
                <a:latin typeface="Comic Sans MS"/>
              </a:rPr>
              <a:t>nascidos v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http://tbn0.google.com/images?q=tbn:C5DQI1JXfZn1fM:http://www.limeira.sp.gov.br/secretarias/turismo/media/images/guia_imagens/mapas/mapa_brasil.gif"/>
          <p:cNvPicPr/>
          <p:nvPr/>
        </p:nvPicPr>
        <p:blipFill>
          <a:blip r:embed="rId1"/>
          <a:stretch/>
        </p:blipFill>
        <p:spPr>
          <a:xfrm>
            <a:off x="7945560" y="0"/>
            <a:ext cx="1198440" cy="1268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http://www.vectraclube.com.br/downloads/mapa_rodoviario_sp_150dpi_8cores.gif"/>
          <p:cNvPicPr/>
          <p:nvPr/>
        </p:nvPicPr>
        <p:blipFill>
          <a:blip r:embed="rId2"/>
          <a:stretch/>
        </p:blipFill>
        <p:spPr>
          <a:xfrm>
            <a:off x="-18788040" y="-18002160"/>
            <a:ext cx="4360680" cy="2873160"/>
          </a:xfrm>
          <a:prstGeom prst="rect">
            <a:avLst/>
          </a:prstGeom>
          <a:ln w="0">
            <a:noFill/>
          </a:ln>
        </p:spPr>
      </p:pic>
      <p:sp>
        <p:nvSpPr>
          <p:cNvPr id="395" name="Elipse 15"/>
          <p:cNvSpPr/>
          <p:nvPr/>
        </p:nvSpPr>
        <p:spPr>
          <a:xfrm>
            <a:off x="13073040" y="8358120"/>
            <a:ext cx="428760" cy="285840"/>
          </a:xfrm>
          <a:prstGeom prst="ellipse">
            <a:avLst/>
          </a:prstGeom>
          <a:noFill/>
          <a:ln w="19080">
            <a:solidFill>
              <a:srgbClr val="b09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Imagem 6" descr="são apulo.bmp"/>
          <p:cNvPicPr/>
          <p:nvPr/>
        </p:nvPicPr>
        <p:blipFill>
          <a:blip r:embed="rId3"/>
          <a:stretch/>
        </p:blipFill>
        <p:spPr>
          <a:xfrm>
            <a:off x="571680" y="1285920"/>
            <a:ext cx="7875360" cy="5000760"/>
          </a:xfrm>
          <a:prstGeom prst="rect">
            <a:avLst/>
          </a:prstGeom>
          <a:ln w="0">
            <a:noFill/>
          </a:ln>
        </p:spPr>
      </p:pic>
      <p:sp>
        <p:nvSpPr>
          <p:cNvPr id="397" name="Estrela de 5 pontas 7"/>
          <p:cNvSpPr/>
          <p:nvPr/>
        </p:nvSpPr>
        <p:spPr>
          <a:xfrm>
            <a:off x="3276720" y="1557360"/>
            <a:ext cx="438120" cy="29988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Estrela de 5 pontas 8"/>
          <p:cNvSpPr/>
          <p:nvPr/>
        </p:nvSpPr>
        <p:spPr>
          <a:xfrm>
            <a:off x="4929120" y="2708280"/>
            <a:ext cx="434880" cy="29196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Estrela de 5 pontas 9"/>
          <p:cNvSpPr/>
          <p:nvPr/>
        </p:nvSpPr>
        <p:spPr>
          <a:xfrm>
            <a:off x="5786280" y="2924280"/>
            <a:ext cx="441360" cy="29052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Estrela de 5 pontas 10"/>
          <p:cNvSpPr/>
          <p:nvPr/>
        </p:nvSpPr>
        <p:spPr>
          <a:xfrm>
            <a:off x="6156360" y="4365720"/>
            <a:ext cx="503280" cy="28872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0" y="47628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ão Pau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Estrela de 5 pontas 11"/>
          <p:cNvSpPr/>
          <p:nvPr/>
        </p:nvSpPr>
        <p:spPr>
          <a:xfrm>
            <a:off x="5148360" y="3786120"/>
            <a:ext cx="441360" cy="29052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Estrela de 5 pontas 12"/>
          <p:cNvSpPr/>
          <p:nvPr/>
        </p:nvSpPr>
        <p:spPr>
          <a:xfrm>
            <a:off x="4851360" y="3357720"/>
            <a:ext cx="441360" cy="29052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0" y="1341360"/>
            <a:ext cx="9144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squis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Narchi, N.Z.; Szewczuk,N.G.;Liester,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10c1d"/>
                </a:solidFill>
                <a:latin typeface="Comic Sans MS"/>
              </a:rPr>
              <a:t>Atenção Pré-natal e Parto </a:t>
            </a:r>
            <a:br>
              <a:rPr sz="3200"/>
            </a:br>
            <a:r>
              <a:rPr b="1" lang="pt-BR" sz="3200" spc="-1" strike="noStrike">
                <a:solidFill>
                  <a:srgbClr val="210c1d"/>
                </a:solidFill>
                <a:latin typeface="Comic Sans MS"/>
              </a:rPr>
              <a:t> São Paulo-zona Lest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6" name="Retângulo 4"/>
          <p:cNvSpPr/>
          <p:nvPr/>
        </p:nvSpPr>
        <p:spPr>
          <a:xfrm>
            <a:off x="611280" y="2421000"/>
            <a:ext cx="80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131 enfermeiras ( 35% enf. obstétric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édia da idade: 48,2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enos de 10 anos de formação (6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s de 5 anos na área de atu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ais de um emprego (12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35164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just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32400" algn="just">
              <a:lnSpc>
                <a:spcPct val="150000"/>
              </a:lnSpc>
              <a:spcBef>
                <a:spcPts val="825"/>
              </a:spcBef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a grande maioria das</a:t>
            </a:r>
            <a:r>
              <a:rPr b="1" lang="en-US" sz="3300" spc="-1" strike="noStrike">
                <a:solidFill>
                  <a:srgbClr val="660033"/>
                </a:solidFill>
                <a:latin typeface="Comic Sans MS"/>
              </a:rPr>
              <a:t> habilidades contidas nas competências essenciais para o </a:t>
            </a:r>
            <a:r>
              <a:rPr b="1" lang="en-US" sz="3300" spc="-1" strike="noStrike" u="sng">
                <a:solidFill>
                  <a:srgbClr val="660033"/>
                </a:solidFill>
                <a:uFillTx/>
                <a:latin typeface="Comic Sans MS"/>
              </a:rPr>
              <a:t>atendimento ao pré-natal</a:t>
            </a:r>
            <a:r>
              <a:rPr b="1" lang="en-US" sz="3300" spc="-1" strike="noStrike">
                <a:solidFill>
                  <a:srgbClr val="660033"/>
                </a:solidFill>
                <a:latin typeface="Comic Sans MS"/>
              </a:rPr>
              <a:t> são realizadas, no entanto muitas de forma incompleta, necessitando  revisão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10c1d"/>
                </a:solidFill>
                <a:latin typeface="Comic Sans MS"/>
              </a:rPr>
              <a:t>Atenção Pré-natal  </a:t>
            </a:r>
            <a:br>
              <a:rPr sz="3200"/>
            </a:br>
            <a:r>
              <a:rPr b="1" lang="pt-BR" sz="3200" spc="-1" strike="noStrike">
                <a:solidFill>
                  <a:srgbClr val="210c1d"/>
                </a:solidFill>
                <a:latin typeface="Comic Sans MS"/>
              </a:rPr>
              <a:t> São Paulo-zona Lest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10c1d"/>
                </a:solidFill>
                <a:latin typeface="Comic Sans MS"/>
              </a:rPr>
              <a:t>Atenção ao Parto  </a:t>
            </a:r>
            <a:br>
              <a:rPr sz="3200"/>
            </a:br>
            <a:r>
              <a:rPr b="1" lang="pt-BR" sz="3200" spc="-1" strike="noStrike">
                <a:solidFill>
                  <a:srgbClr val="210c1d"/>
                </a:solidFill>
                <a:latin typeface="Comic Sans MS"/>
              </a:rPr>
              <a:t>São Paulo-zona Lest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As 38 enfermeiras que atuam </a:t>
            </a:r>
            <a:r>
              <a:rPr b="1" lang="en-US" sz="3000" spc="-1" strike="noStrike" u="sng">
                <a:solidFill>
                  <a:srgbClr val="660033"/>
                </a:solidFill>
                <a:uFillTx/>
                <a:latin typeface="Comic Sans MS"/>
              </a:rPr>
              <a:t>na atenção ao par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idade média: 42,3 anos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formada há mais de 10 anos (58%)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especialização em Enfermagem Obstétrica (84%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mais de um emprego (60%)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7f7f7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Comic Sans MS"/>
              </a:rPr>
              <a:t>acompanha trabalho de parto e realiza parto de baixo risco (84%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Oval 4"/>
          <p:cNvSpPr/>
          <p:nvPr/>
        </p:nvSpPr>
        <p:spPr>
          <a:xfrm>
            <a:off x="395280" y="1711440"/>
            <a:ext cx="8064360" cy="4381560"/>
          </a:xfrm>
          <a:prstGeom prst="ellipse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900000" y="3284640"/>
            <a:ext cx="7128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As enfermeiras/ obstetrizes que atuam na atenção ao parto possuem longa experiência na atenção ao parto, extensa carga de trabalho e baixos salários. No entanto, não acompanharam muitos dos avanços e transformações na atenção obsté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1547640" y="2492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Atenção Qualific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210c1d"/>
                </a:solidFill>
                <a:latin typeface="Comic Sans MS"/>
              </a:rPr>
              <a:t>Atenção Pré-natal e Parto </a:t>
            </a:r>
            <a:br>
              <a:rPr sz="3200"/>
            </a:br>
            <a:r>
              <a:rPr b="1" lang="pt-BR" sz="3200" spc="-1" strike="noStrike">
                <a:solidFill>
                  <a:srgbClr val="210c1d"/>
                </a:solidFill>
                <a:latin typeface="Comic Sans MS"/>
              </a:rPr>
              <a:t> São Paulo-zona Lest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964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squis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Cagnin, E.R.G.;Mamede,F.V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e Par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araquara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611280" y="1341360"/>
            <a:ext cx="828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Idade média: 39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Tempo de formação:10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Atuação na área: mais de 10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Mais de um emprego: 28,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Carga de trabalho semanal: 42,9 h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70920" y="1267920"/>
            <a:ext cx="88218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 algn="just">
              <a:lnSpc>
                <a:spcPct val="12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Na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atenção ao pré-natal </a:t>
            </a: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  a equipe  é composta por auxiliares de enfermagem, técnicos de enfermagem e enfermeiras, tendo uma predominância de profissionais de enfermagem de nível mé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just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just">
              <a:lnSpc>
                <a:spcPct val="125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Na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atenção ao parto</a:t>
            </a: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, a equipe de enfermagem é constituída por auxiliares de enfermagem, técnicos de enfermagem e enfermeiras obstetras, tendo uma predominância de enfermeiras especialistas em obstetrí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e Par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araquara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25000"/>
              </a:lnSpc>
              <a:spcBef>
                <a:spcPts val="11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A </a:t>
            </a:r>
            <a:r>
              <a:rPr b="1" lang="pt-BR" sz="2400" spc="-1" strike="noStrike" u="sng">
                <a:solidFill>
                  <a:srgbClr val="660033"/>
                </a:solidFill>
                <a:uFillTx/>
                <a:latin typeface="Comic Sans MS"/>
              </a:rPr>
              <a:t>atenção ao pré-natal</a:t>
            </a: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 é centrada na figura do médico e há discreta participação da enfermeir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25000"/>
              </a:lnSpc>
              <a:spcBef>
                <a:spcPts val="11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As enfermeiras </a:t>
            </a:r>
            <a:r>
              <a:rPr b="1" lang="pt-BR" sz="2400" spc="-1" strike="noStrike" u="sng">
                <a:solidFill>
                  <a:srgbClr val="660033"/>
                </a:solidFill>
                <a:uFillTx/>
                <a:latin typeface="Comic Sans MS"/>
              </a:rPr>
              <a:t>não realizam o acompanhamento de pré-natal </a:t>
            </a: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(eventu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25000"/>
              </a:lnSpc>
              <a:spcBef>
                <a:spcPts val="11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Na atenção ao parto cabe à enfermeira obstetra: </a:t>
            </a:r>
            <a:r>
              <a:rPr b="1" lang="pt-BR" sz="2400" spc="-1" strike="noStrike" u="sng">
                <a:solidFill>
                  <a:srgbClr val="660033"/>
                </a:solidFill>
                <a:uFillTx/>
                <a:latin typeface="Comic Sans MS"/>
              </a:rPr>
              <a:t>avaliação obstétrica admissional, o acompanhamento ao trabalho de parto e a realização do parto vaginal</a:t>
            </a: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25000"/>
              </a:lnSpc>
              <a:spcBef>
                <a:spcPts val="11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Os profissionais de enfermagem de </a:t>
            </a:r>
            <a:r>
              <a:rPr b="1" lang="pt-BR" sz="2400" spc="-1" strike="noStrike" u="sng">
                <a:solidFill>
                  <a:srgbClr val="660033"/>
                </a:solidFill>
                <a:uFillTx/>
                <a:latin typeface="Comic Sans MS"/>
              </a:rPr>
              <a:t>nível médio</a:t>
            </a: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 realizam atividades de </a:t>
            </a:r>
            <a:r>
              <a:rPr b="1" lang="pt-BR" sz="2400" spc="-1" strike="noStrike" u="sng">
                <a:solidFill>
                  <a:srgbClr val="660033"/>
                </a:solidFill>
                <a:uFillTx/>
                <a:latin typeface="Comic Sans MS"/>
              </a:rPr>
              <a:t>menor complexida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25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25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25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e Par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araquara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463040" y="2220120"/>
            <a:ext cx="5856840" cy="320040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24000" y="2708280"/>
            <a:ext cx="8135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mic Sans MS"/>
              </a:rPr>
              <a:t>Na atenção ao pré-natal, há carência de pessoal de enfermagem qualificado, enquanto que na atenção ao parto, a participação da enfermeira obstetra é uma realidade consolid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Comic Sans MS"/>
              </a:rPr>
              <a:t>As </a:t>
            </a:r>
            <a:r>
              <a:rPr b="1" lang="en-US" sz="1800" spc="-1" strike="noStrike" u="sng">
                <a:solidFill>
                  <a:srgbClr val="660033"/>
                </a:solidFill>
                <a:uFillTx/>
                <a:latin typeface="Comic Sans MS"/>
              </a:rPr>
              <a:t>habilidades essenciais</a:t>
            </a:r>
            <a:r>
              <a:rPr b="1" lang="en-US" sz="1800" spc="-1" strike="noStrike">
                <a:solidFill>
                  <a:srgbClr val="660033"/>
                </a:solidFill>
                <a:latin typeface="Comic Sans MS"/>
              </a:rPr>
              <a:t> em obstetrícia, preconizadas pela ICM, deixaram de ser desenvolvidas ou o foram de maneira incompleta no pré-natal e atenção ao par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332000" y="198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Atenção Qualific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e Par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araquara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49240" y="115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e ao Parto em São Carlos/SP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0" y="1197000"/>
            <a:ext cx="896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squis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Bussadori, J.C.C.;Clapis, M.J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95280" y="2276640"/>
            <a:ext cx="74674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22160" indent="-27288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Idade média: 34,6 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Tempo médio de formação: mais de 5 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Tempo médio na área: 7 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5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18% tem mais de um empr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"/>
          <p:cNvGrpSpPr/>
          <p:nvPr/>
        </p:nvGrpSpPr>
        <p:grpSpPr>
          <a:xfrm>
            <a:off x="1739880" y="749160"/>
            <a:ext cx="2286000" cy="1143000"/>
            <a:chOff x="1739880" y="749160"/>
            <a:chExt cx="2286000" cy="1143000"/>
          </a:xfrm>
        </p:grpSpPr>
        <p:sp>
          <p:nvSpPr>
            <p:cNvPr id="291" name="Oval 5"/>
            <p:cNvSpPr/>
            <p:nvPr/>
          </p:nvSpPr>
          <p:spPr>
            <a:xfrm>
              <a:off x="1739880" y="749160"/>
              <a:ext cx="2286000" cy="1143000"/>
            </a:xfrm>
            <a:prstGeom prst="ellips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6"/>
            <p:cNvSpPr/>
            <p:nvPr/>
          </p:nvSpPr>
          <p:spPr>
            <a:xfrm>
              <a:off x="2006640" y="939600"/>
              <a:ext cx="175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31f48"/>
                  </a:solidFill>
                  <a:latin typeface="Comic Sans MS"/>
                </a:rPr>
                <a:t>Habilidades específic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Group 7"/>
          <p:cNvGrpSpPr/>
          <p:nvPr/>
        </p:nvGrpSpPr>
        <p:grpSpPr>
          <a:xfrm>
            <a:off x="34920" y="3035160"/>
            <a:ext cx="2286000" cy="1143000"/>
            <a:chOff x="34920" y="3035160"/>
            <a:chExt cx="2286000" cy="1143000"/>
          </a:xfrm>
        </p:grpSpPr>
        <p:sp>
          <p:nvSpPr>
            <p:cNvPr id="294" name="Oval 8"/>
            <p:cNvSpPr/>
            <p:nvPr/>
          </p:nvSpPr>
          <p:spPr>
            <a:xfrm>
              <a:off x="34920" y="3035160"/>
              <a:ext cx="2286000" cy="1143000"/>
            </a:xfrm>
            <a:prstGeom prst="ellips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34920" y="3263760"/>
              <a:ext cx="215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31f48"/>
                  </a:solidFill>
                  <a:latin typeface="Comic Sans MS"/>
                </a:rPr>
                <a:t>Respaldo legal e normativ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10"/>
          <p:cNvGrpSpPr/>
          <p:nvPr/>
        </p:nvGrpSpPr>
        <p:grpSpPr>
          <a:xfrm>
            <a:off x="5549760" y="749160"/>
            <a:ext cx="2286000" cy="1143000"/>
            <a:chOff x="5549760" y="749160"/>
            <a:chExt cx="2286000" cy="1143000"/>
          </a:xfrm>
        </p:grpSpPr>
        <p:sp>
          <p:nvSpPr>
            <p:cNvPr id="297" name="Oval 11"/>
            <p:cNvSpPr/>
            <p:nvPr/>
          </p:nvSpPr>
          <p:spPr>
            <a:xfrm>
              <a:off x="5549760" y="749160"/>
              <a:ext cx="2286000" cy="1143000"/>
            </a:xfrm>
            <a:prstGeom prst="ellips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5740200" y="93960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31f48"/>
                  </a:solidFill>
                  <a:latin typeface="Comic Sans MS"/>
                </a:rPr>
                <a:t>Competência profiss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Group 13"/>
          <p:cNvGrpSpPr/>
          <p:nvPr/>
        </p:nvGrpSpPr>
        <p:grpSpPr>
          <a:xfrm>
            <a:off x="6443640" y="3068640"/>
            <a:ext cx="2626920" cy="1297080"/>
            <a:chOff x="6443640" y="3068640"/>
            <a:chExt cx="2626920" cy="1297080"/>
          </a:xfrm>
        </p:grpSpPr>
        <p:sp>
          <p:nvSpPr>
            <p:cNvPr id="300" name="Oval 14"/>
            <p:cNvSpPr/>
            <p:nvPr/>
          </p:nvSpPr>
          <p:spPr>
            <a:xfrm>
              <a:off x="6443640" y="3068640"/>
              <a:ext cx="2626920" cy="1297080"/>
            </a:xfrm>
            <a:prstGeom prst="ellips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6563160" y="3211560"/>
              <a:ext cx="2388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31f48"/>
                  </a:solidFill>
                  <a:latin typeface="Comic Sans MS"/>
                </a:rPr>
                <a:t>Equipamen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31f48"/>
                  </a:solidFill>
                  <a:latin typeface="Comic Sans MS"/>
                </a:rPr>
                <a:t>e medicamentos essencia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16"/>
          <p:cNvSpPr/>
          <p:nvPr/>
        </p:nvSpPr>
        <p:spPr>
          <a:xfrm>
            <a:off x="2050920" y="2492280"/>
            <a:ext cx="4724640" cy="1994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e5c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fissional de saú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efic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 de boa qualid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17"/>
          <p:cNvGrpSpPr/>
          <p:nvPr/>
        </p:nvGrpSpPr>
        <p:grpSpPr>
          <a:xfrm>
            <a:off x="1282680" y="5207040"/>
            <a:ext cx="3200400" cy="1143000"/>
            <a:chOff x="1282680" y="5207040"/>
            <a:chExt cx="3200400" cy="1143000"/>
          </a:xfrm>
        </p:grpSpPr>
        <p:sp>
          <p:nvSpPr>
            <p:cNvPr id="304" name="Oval 18"/>
            <p:cNvSpPr/>
            <p:nvPr/>
          </p:nvSpPr>
          <p:spPr>
            <a:xfrm>
              <a:off x="1282680" y="5207040"/>
              <a:ext cx="3200400" cy="1143000"/>
            </a:xfrm>
            <a:prstGeom prst="ellips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1359000" y="5397480"/>
              <a:ext cx="304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31f48"/>
                  </a:solidFill>
                  <a:latin typeface="Comic Sans MS"/>
                </a:rPr>
                <a:t>sistema de referência em funcionamen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Group 20"/>
          <p:cNvGrpSpPr/>
          <p:nvPr/>
        </p:nvGrpSpPr>
        <p:grpSpPr>
          <a:xfrm>
            <a:off x="4940280" y="5264280"/>
            <a:ext cx="3505320" cy="1028520"/>
            <a:chOff x="4940280" y="5264280"/>
            <a:chExt cx="3505320" cy="1028520"/>
          </a:xfrm>
        </p:grpSpPr>
        <p:sp>
          <p:nvSpPr>
            <p:cNvPr id="307" name="Oval 21"/>
            <p:cNvSpPr/>
            <p:nvPr/>
          </p:nvSpPr>
          <p:spPr>
            <a:xfrm>
              <a:off x="4940280" y="5264280"/>
              <a:ext cx="3505320" cy="1028520"/>
            </a:xfrm>
            <a:prstGeom prst="ellips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5207040" y="5397480"/>
              <a:ext cx="297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31f48"/>
                  </a:solidFill>
                  <a:latin typeface="Comic Sans MS"/>
                </a:rPr>
                <a:t>Sistema de educação e de saúd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Text Box 23"/>
          <p:cNvSpPr/>
          <p:nvPr/>
        </p:nvSpPr>
        <p:spPr>
          <a:xfrm>
            <a:off x="4932360" y="64468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MACDONALD; STARRS, 200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ts val="3600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O modelo de atendimento pré-natal é centrado nas ações do méd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600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Não acompanha o protocolo assist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600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A consulta de pré-natal pela enfermeira se faz de forma descontínua e even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849240" y="11592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em São Carlos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Todas são as enfermeiras obstétricas e assistem ao par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As técnicas de enfermagem realizam parto de urgência na ausência do médico e da enferm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A atenção ao parto pelas enfermeiras está de acordo com com evidências científicas e recomendadas pela OM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just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just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just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849240" y="11592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arto em São Carlos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280880" y="2089800"/>
            <a:ext cx="6186960" cy="361512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36360" algn="ctr">
              <a:lnSpc>
                <a:spcPct val="80000"/>
              </a:lnSpc>
              <a:spcBef>
                <a:spcPts val="451"/>
              </a:spcBef>
              <a:buClr>
                <a:srgbClr val="f0d7eb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6360">
              <a:lnSpc>
                <a:spcPct val="80000"/>
              </a:lnSpc>
              <a:spcBef>
                <a:spcPts val="201"/>
              </a:spcBef>
              <a:buClr>
                <a:srgbClr val="f0d7eb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36360">
              <a:lnSpc>
                <a:spcPct val="80000"/>
              </a:lnSpc>
              <a:spcBef>
                <a:spcPts val="201"/>
              </a:spcBef>
              <a:buClr>
                <a:srgbClr val="f0d7eb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49240" y="115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e ao Parto em São Carlos/SP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844640"/>
            <a:ext cx="792000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Ações no </a:t>
            </a: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pré-natal:</a:t>
            </a: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 predominantemente de suporte e complementação da assistência médica, não atendendo às competências essenciais da ICM/OMS/FI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Apenas 13% do s profissionais de enfermagem na </a:t>
            </a: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atenção ao parto</a:t>
            </a: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 são considerados qualifi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0033"/>
                </a:solidFill>
                <a:latin typeface="Comic Sans MS"/>
              </a:rPr>
              <a:t>As </a:t>
            </a:r>
            <a:r>
              <a:rPr b="1" lang="pt-BR" sz="2000" spc="-1" strike="noStrike" u="sng">
                <a:solidFill>
                  <a:srgbClr val="660033"/>
                </a:solidFill>
                <a:uFillTx/>
                <a:latin typeface="Comic Sans MS"/>
              </a:rPr>
              <a:t>habilidades essenciais</a:t>
            </a:r>
            <a:r>
              <a:rPr b="1" lang="pt-BR" sz="2000" spc="-1" strike="noStrike">
                <a:solidFill>
                  <a:srgbClr val="660033"/>
                </a:solidFill>
                <a:latin typeface="Comic Sans MS"/>
              </a:rPr>
              <a:t> em obstetrícia, preconizadas pela ICM,  foram desenvolvidas  na atenção ao par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buClr>
                <a:srgbClr val="f0d7eb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squis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Sabino,A.M.N.F.;Clapis,M.J</a:t>
            </a:r>
            <a:r>
              <a:rPr b="1" i="1" lang="pt-BR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São José do Rio Preto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17928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ts val="2798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Idade média: 31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2798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empo de formação: 5 a 10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2798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Atuação na área: 5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2798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Mais de um emprego: 14,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2798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Carga de trabalho semanal: 40 h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1338840" y="1853640"/>
            <a:ext cx="6466320" cy="387000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250920" y="2276640"/>
            <a:ext cx="8893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Participação da enfermeira na atenção pré-natal pouca expres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Atividades mais realizadas: solicitação de exames, grupo de gestantes e ações educativas individu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Muitas das competências essenciais para o atendimento pré-natal </a:t>
            </a:r>
            <a:r>
              <a:rPr b="1" i="1" lang="pt-BR" sz="2400" spc="-1" strike="noStrike" u="sng">
                <a:solidFill>
                  <a:srgbClr val="660033"/>
                </a:solidFill>
                <a:uFillTx/>
                <a:latin typeface="Comic Sans MS"/>
              </a:rPr>
              <a:t>não são</a:t>
            </a: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 desenvolv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Pré-natal São José do Rio Preto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squis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Vorpagel,M.G.B.;Clapis,M.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arto  em Porto Ferreira/SP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24000" y="2205000"/>
            <a:ext cx="8208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Idade média: 33,2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Tempo de formação: mais de 5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Tempo de atuação na área: mais de 4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Mais de um emprego: 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Não há enfermeira obstétrica/obstetri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A atenção ao parto é centrada na figura do médico e há discreta participação da enfermei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Atividades realizadas pela enfermeira, na ausência do médico: palpação obstétrica, dinâmica uterina e toque vag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arto  em Porto Ferreira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ts val="47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0033"/>
                </a:solidFill>
                <a:latin typeface="Comic Sans MS"/>
              </a:rPr>
              <a:t>Participação da equipe de enfermagem na realização de práticas consideradas prejudiciais à saúde materna e sem evidências científicas ( Kristeller, tricotomia, administração de ocitocina  rotineir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arto  em Porto Ferreira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699200" y="1931040"/>
            <a:ext cx="5600880" cy="320040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403280" y="23385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Atenção Qualific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755640" y="3429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684360" y="3141720"/>
            <a:ext cx="7632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omic Sans MS"/>
              </a:rPr>
              <a:t>Os profissionais de enfermagem não atendem ao perfil traçado pela definição de profissional qualificado ao parto da OMS/ICM/FI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arto  em Porto Ferreira/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http://www.saogoncalo.rj.gov.br/imagens/mapa_rj.jpg"/>
          <p:cNvPicPr/>
          <p:nvPr/>
        </p:nvPicPr>
        <p:blipFill>
          <a:blip r:embed="rId1"/>
          <a:stretch/>
        </p:blipFill>
        <p:spPr>
          <a:xfrm>
            <a:off x="684360" y="1484280"/>
            <a:ext cx="6780240" cy="4897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http://www.quetalviajar.com/images/mapas/mapa-rio-de-janeiro.jpg"/>
          <p:cNvPicPr/>
          <p:nvPr/>
        </p:nvPicPr>
        <p:blipFill>
          <a:blip r:embed="rId2"/>
          <a:stretch/>
        </p:blipFill>
        <p:spPr>
          <a:xfrm>
            <a:off x="7473960" y="0"/>
            <a:ext cx="1670040" cy="1655640"/>
          </a:xfrm>
          <a:prstGeom prst="rect">
            <a:avLst/>
          </a:prstGeom>
          <a:ln w="0">
            <a:noFill/>
          </a:ln>
        </p:spPr>
      </p:pic>
      <p:sp>
        <p:nvSpPr>
          <p:cNvPr id="456" name="Estrela de 5 pontas 6"/>
          <p:cNvSpPr/>
          <p:nvPr/>
        </p:nvSpPr>
        <p:spPr>
          <a:xfrm>
            <a:off x="2916360" y="5084640"/>
            <a:ext cx="358560" cy="21744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CaixaDeTexto 4"/>
          <p:cNvSpPr/>
          <p:nvPr/>
        </p:nvSpPr>
        <p:spPr>
          <a:xfrm>
            <a:off x="1403280" y="333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0c1d"/>
                </a:solidFill>
                <a:latin typeface="Comic Sans MS"/>
              </a:rPr>
              <a:t>Rio de Janeiro - R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://www.suapesquisa.com/mapas/mp-brasil.jpg"/>
          <p:cNvPicPr/>
          <p:nvPr/>
        </p:nvPicPr>
        <p:blipFill>
          <a:blip r:embed="rId1"/>
          <a:stretch/>
        </p:blipFill>
        <p:spPr>
          <a:xfrm>
            <a:off x="1538280" y="549360"/>
            <a:ext cx="5986440" cy="5657760"/>
          </a:xfrm>
          <a:prstGeom prst="rect">
            <a:avLst/>
          </a:prstGeom>
          <a:ln w="0">
            <a:noFill/>
          </a:ln>
        </p:spPr>
      </p:pic>
      <p:sp>
        <p:nvSpPr>
          <p:cNvPr id="311" name="Estrela de 5 pontas 9"/>
          <p:cNvSpPr/>
          <p:nvPr/>
        </p:nvSpPr>
        <p:spPr>
          <a:xfrm>
            <a:off x="1603440" y="2544840"/>
            <a:ext cx="285840" cy="21420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Estrela de 5 pontas 10"/>
          <p:cNvSpPr/>
          <p:nvPr/>
        </p:nvSpPr>
        <p:spPr>
          <a:xfrm>
            <a:off x="4273560" y="2832120"/>
            <a:ext cx="285840" cy="21420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Estrela de 5 pontas 11"/>
          <p:cNvSpPr/>
          <p:nvPr/>
        </p:nvSpPr>
        <p:spPr>
          <a:xfrm>
            <a:off x="5059440" y="4478400"/>
            <a:ext cx="285840" cy="21420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Estrela de 5 pontas 12"/>
          <p:cNvSpPr/>
          <p:nvPr/>
        </p:nvSpPr>
        <p:spPr>
          <a:xfrm>
            <a:off x="5724360" y="3716280"/>
            <a:ext cx="285840" cy="21420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Estrela de 5 pontas 10"/>
          <p:cNvSpPr/>
          <p:nvPr/>
        </p:nvSpPr>
        <p:spPr>
          <a:xfrm>
            <a:off x="5994360" y="4487760"/>
            <a:ext cx="285840" cy="21456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Estrela de 5 pontas 10"/>
          <p:cNvSpPr/>
          <p:nvPr/>
        </p:nvSpPr>
        <p:spPr>
          <a:xfrm>
            <a:off x="4427640" y="4797360"/>
            <a:ext cx="285480" cy="21420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c1d"/>
                </a:solidFill>
                <a:latin typeface="Comic Sans MS"/>
              </a:rPr>
              <a:t>Atenção ao parto no Rio de Janeiro- R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4427640" y="620640"/>
            <a:ext cx="47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squis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Rocha, C.R. e Tyrrell, M.A.R.(2009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250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Idade média:41 an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Tempo de formaçã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Tempo na área de  atuação: mais de 5,5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Carga horária semanal média: 55 h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ts val="3498"/>
              </a:lnSpc>
              <a:spcBef>
                <a:spcPts val="601"/>
              </a:spcBef>
              <a:spcAft>
                <a:spcPts val="1199"/>
              </a:spcAft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 algn="just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Assistência ao parto fisiológico é uma prática realizada pelo enfermeiro (em maior parte) e pelo auxiliar de enfermagem</a:t>
            </a:r>
            <a:r>
              <a:rPr b="0" lang="pt-BR" sz="3000" spc="-1" strike="noStrike">
                <a:solidFill>
                  <a:srgbClr val="660033"/>
                </a:solidFill>
                <a:latin typeface="Aria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81,2% dos enfermeiros são especialistas em obstetrí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 algn="just"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21,4% dos enfermeiros e 0,7% dos auxiliares conhecem e possuem treinamento de todas os conhecimentos e habilidades essenciais em obstetrícia</a:t>
            </a:r>
            <a:r>
              <a:rPr b="0" lang="pt-BR" sz="2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c1d"/>
                </a:solidFill>
                <a:latin typeface="Comic Sans MS"/>
              </a:rPr>
              <a:t>Atenção ao parto no Rio de Janeiro- R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312560" y="1690200"/>
            <a:ext cx="6339600" cy="412452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38952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a mulher é assistida no trabalho de parto e parto,por profissionais de enfermagem com qualificação e competências disti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os auxiliares de enfermagem realizam habilidades sem a devida qualificação e sem respaldo le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Os profissionais de enfermagem possuem maturidade pessoal e profis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c1d"/>
                </a:solidFill>
                <a:latin typeface="Comic Sans MS"/>
              </a:rPr>
              <a:t>Atenção ao parto no Rio de Janeiro- R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http://www.mochileiro.tur.br/PR%20003.jpg"/>
          <p:cNvPicPr/>
          <p:nvPr/>
        </p:nvPicPr>
        <p:blipFill>
          <a:blip r:embed="rId1"/>
          <a:stretch/>
        </p:blipFill>
        <p:spPr>
          <a:xfrm>
            <a:off x="7502400" y="0"/>
            <a:ext cx="1641600" cy="1628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http://4.bp.blogspot.com/_opJ2mo1w6Yo/SR1Z5JoU1EI/AAAAAAAABQE/Lf3R0hl-ba8/s400/Mapa+Parana+02.jpg"/>
          <p:cNvPicPr/>
          <p:nvPr/>
        </p:nvPicPr>
        <p:blipFill>
          <a:blip r:embed="rId2"/>
          <a:stretch/>
        </p:blipFill>
        <p:spPr>
          <a:xfrm>
            <a:off x="1165320" y="1587600"/>
            <a:ext cx="6359400" cy="4721040"/>
          </a:xfrm>
          <a:prstGeom prst="rect">
            <a:avLst/>
          </a:prstGeom>
          <a:ln w="0">
            <a:noFill/>
          </a:ln>
        </p:spPr>
      </p:pic>
      <p:sp>
        <p:nvSpPr>
          <p:cNvPr id="467" name="Estrela de 5 pontas 6"/>
          <p:cNvSpPr/>
          <p:nvPr/>
        </p:nvSpPr>
        <p:spPr>
          <a:xfrm>
            <a:off x="4427640" y="2781360"/>
            <a:ext cx="358560" cy="21744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CaixaDeTexto 4"/>
          <p:cNvSpPr/>
          <p:nvPr/>
        </p:nvSpPr>
        <p:spPr>
          <a:xfrm>
            <a:off x="1547640" y="33336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0c1d"/>
                </a:solidFill>
                <a:latin typeface="Comic Sans MS"/>
              </a:rPr>
              <a:t>Londrina- Paraná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c1d"/>
                </a:solidFill>
                <a:latin typeface="Comic Sans MS"/>
              </a:rPr>
              <a:t>Atenção ao Parto em Londrina - Paran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squis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sser, M.A. M. S. e  Mamede, F.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324000" y="1600200"/>
            <a:ext cx="8424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Idade média de 38,1 an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Carga horária média semanal de trabalho dos profissionais de enfermagem é de 64,25 h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32% dos profisisonais têm 2 ou mais empreg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Tempo de experiência profissional: 8,5 an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3560" indent="-54864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Muitas competências essenciais para o atendimento ao trabalho de parto e parto não são desenvolvid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3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3560" indent="-54864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Inexiste protocolos assistenciais, a prática obstétrica  não está apoiada em evidências científicas atualiz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3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3560" indent="-54864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A realização do parto pela enfermeira obstetra se limita apenas a uma instituição e, de forma mod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3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3560" indent="-54864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A enfermeira pouco participa das ações assistencia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3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c1d"/>
                </a:solidFill>
                <a:latin typeface="Comic Sans MS"/>
              </a:rPr>
              <a:t>Atenção ao Parto em Londrina - Paran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338840" y="1863000"/>
            <a:ext cx="6466320" cy="356436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O modelo assistencial  é focado na assistência institucionalizada e voltada para o modelo mé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Apenas 8% dos profissionais de enfermagem atendem </a:t>
            </a: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atendem ao perfil traçado pela definição de profissional qualificado ao parto da OMS/ICM/FI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0c1d"/>
                </a:solidFill>
                <a:latin typeface="Comic Sans MS"/>
              </a:rPr>
              <a:t>Atenção ao Parto em Londrina - Paran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http://www.trabalhoseconcursos.com/images/mapas/mapa-mato-grosso.jpg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6779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http://1.bp.blogspot.com/_Mq4S1uVPJOo/SNlwcC79_lI/AAAAAAAACgk/ZVI1qDYdwEU/s400/mato-grosso.gif"/>
          <p:cNvPicPr/>
          <p:nvPr/>
        </p:nvPicPr>
        <p:blipFill>
          <a:blip r:embed="rId2"/>
          <a:stretch/>
        </p:blipFill>
        <p:spPr>
          <a:xfrm>
            <a:off x="684360" y="1628640"/>
            <a:ext cx="7034040" cy="4643640"/>
          </a:xfrm>
          <a:prstGeom prst="rect">
            <a:avLst/>
          </a:prstGeom>
          <a:ln w="0">
            <a:noFill/>
          </a:ln>
        </p:spPr>
      </p:pic>
      <p:sp>
        <p:nvSpPr>
          <p:cNvPr id="478" name="Estrela de 5 pontas 5"/>
          <p:cNvSpPr/>
          <p:nvPr/>
        </p:nvSpPr>
        <p:spPr>
          <a:xfrm>
            <a:off x="3851280" y="4869000"/>
            <a:ext cx="360360" cy="21744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CaixaDeTexto 4"/>
          <p:cNvSpPr/>
          <p:nvPr/>
        </p:nvSpPr>
        <p:spPr>
          <a:xfrm>
            <a:off x="1547640" y="33336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0c1d"/>
                </a:solidFill>
                <a:latin typeface="Comic Sans MS"/>
              </a:rPr>
              <a:t>Cuiabá- Mato Gross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ré-natal em Cuiabá- M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0" y="1817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A média da idade: 40, 2 anos (36,5 para os Enfermeiros e 43,4  para o nível médio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Tempo de formação profissional: mais de 10 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33"/>
                </a:solidFill>
                <a:latin typeface="Comic Sans MS"/>
              </a:rPr>
              <a:t>Tempo médio de experiência na área: 7,2 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tângulo 4"/>
          <p:cNvSpPr/>
          <p:nvPr/>
        </p:nvSpPr>
        <p:spPr>
          <a:xfrm>
            <a:off x="4211640" y="765000"/>
            <a:ext cx="4681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squis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uarte, S.J.H.e Mamede,M.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Enfermeiros realizam as consultas de enfermagem no pré-natal, e aos profissionais do nível médio cabe a pré-consulta da ge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Muitas das competências essenciais para a assistência pré-natal foram desenvolvidas pela equipe de enfermagem em baixa frequência, de forma incompleta ou deixaram de ser realizadas as consul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33"/>
                </a:solidFill>
                <a:latin typeface="Comic Sans MS"/>
              </a:rPr>
              <a:t>Ações e procedimentos não realizados: atividades de educação em saúde e classificação do risco gesta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ré-natal em Cuiabá- M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539640" y="981000"/>
          <a:ext cx="8209080" cy="5400720"/>
        </p:xfrm>
        <a:graphic>
          <a:graphicData uri="http://schemas.openxmlformats.org/drawingml/2006/table">
            <a:tbl>
              <a:tblPr/>
              <a:tblGrid>
                <a:gridCol w="2289240"/>
                <a:gridCol w="1104840"/>
                <a:gridCol w="1184400"/>
                <a:gridCol w="1262160"/>
                <a:gridCol w="711000"/>
                <a:gridCol w="946080"/>
                <a:gridCol w="711360"/>
              </a:tblGrid>
              <a:tr h="8636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Estados/municíp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Extensão territo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Km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Populaçã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Mortalidade neonatal precoce/tar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RM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Cesá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Baixo pes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081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Ac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Cruzeiro  Sul/ Mâncio Lima/ Marechal Thamatur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- Rio Bran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0.34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4.2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86.8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53.0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72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São Paul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Araraqua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Capital/zona Le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S.José Rio Pre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Porto Ferrei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Piracica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S.Carl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.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4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434,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4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1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82.4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.552.0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414.2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5.0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368.8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20.4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,2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,28/1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7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4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7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7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316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 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.182,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.178.7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,0/ 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334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Mato Gro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Cuiab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3.538,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50.5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8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320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Minas Gera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 Alfen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843,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75.2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1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316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Paran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 Londr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50,8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10.7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,1/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5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6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31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CaixaDeTexto 5"/>
          <p:cNvSpPr/>
          <p:nvPr/>
        </p:nvSpPr>
        <p:spPr>
          <a:xfrm>
            <a:off x="324000" y="25236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tensão territorial, População e Indicadores maternos e neonatais de acordo com os municípios pesquisados/Br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CaixaDeTexto 6"/>
          <p:cNvSpPr/>
          <p:nvPr/>
        </p:nvSpPr>
        <p:spPr>
          <a:xfrm>
            <a:off x="1547640" y="645336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sil: 8.514.876,599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tal pesquisado 45.187,58 K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As ações desenvolvidas na assistência ao pré-natal pela equipe de enfermagem não são padronizadas, inexiste protocolos assistencia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As ações não são orientadas por práticas baseadas em evidências cient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ré-natal em Cuiabá- M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157760" y="1964520"/>
            <a:ext cx="6466320" cy="4054320"/>
          </a:xfrm>
          <a:prstGeom prst="rect">
            <a:avLst/>
          </a:prstGeom>
          <a:solidFill>
            <a:srgbClr val="ffff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95280" y="1989000"/>
            <a:ext cx="78487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há diferenças nos modelos de atenção pré-natal: na ESF a assistência pré-natal é rotina dos enfermeiros enquanto nos CS é uma atividade even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Comic Sans MS"/>
              </a:rPr>
              <a:t>De acordo com a definição de profissional qualificado ao atendimento pré-natal da ICM/OMS/FIGO, nem todos os Enfermeiros atendem ao perfil traç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Pré-natal em Cuiabá- M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iderações Finai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79280" y="124128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Modelo brasileiro se enquadra entre aquele de países onde a atenção obstétrica é quase que eminentemente institucionalizada, com limitada ação dos profissionais não médic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Os achados reafirmam a carência de profissionais de enfermagem qualificados para o atendimento à mulher no ciclo grávido puerperal no Bras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Necessidade de aumentar quantitativamente e qualitativamente o número de enfermeiras obstétricas/ obstetrizes capacitadas para o atendimento em obstetrí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Necessidade de estabelecimento e adesão aos padrões de qualidade de atendimento em obstetrícia (ICM/FIGO/OM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120816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Com base no observado podemos afirmar que as estatísticas oficiais não têm dado conta de contabilizar as parteiras tradicionais da região do Juruá-Ac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As políticas de saúde precisam desenvolver estratégias de atuação fundamentadas na realidade das florestas amazônicas, de modo a privilegiar a capacitação e qualificação das parteiras e dos profissionais de enfermagem que atuam na regiã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Compromisso das universidades para  com a formação de enfermeiras obstétricas/obstetriz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iderações Finai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Compromisso com a Certificação das Competências Essenciais em Obstetrícia das enfermeiras obstétricas/obstetrizes (ABENFO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Comic Sans MS"/>
              </a:rPr>
              <a:t>Compromisso com elaboração de políticas de bem-estar que focalizem as necessidade das mulheres e em especial em situação de gravidez, parto e pós par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iderações Finai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468360" y="1052640"/>
          <a:ext cx="8353440" cy="5562360"/>
        </p:xfrm>
        <a:graphic>
          <a:graphicData uri="http://schemas.openxmlformats.org/drawingml/2006/table">
            <a:tbl>
              <a:tblPr/>
              <a:tblGrid>
                <a:gridCol w="2403360"/>
                <a:gridCol w="1506600"/>
                <a:gridCol w="1555920"/>
                <a:gridCol w="1527120"/>
                <a:gridCol w="1360440"/>
              </a:tblGrid>
              <a:tr h="6850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Estados/municípi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enfermeir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Aux/técnicos de enfermage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Parteiras Tradicion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14156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Ac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Cruzeiro  Sul/ Mâncio Lima/ Marechal Thamaturg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- Rio Branc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4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5980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São Paul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Araraquar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Capital/zona Les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S.José Rio Pre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Porto Ferreir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Piracicab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531f48"/>
                        </a:buClr>
                        <a:buSzPct val="80000"/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São Carl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3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4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8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6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Rio de Jan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 Rio de Jan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6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Mato Gross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Cuiabá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7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0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8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6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Minas Ger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 Alfen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2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68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Paraná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- Londri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6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286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22860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4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4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31f48"/>
                          </a:solidFill>
                          <a:latin typeface="Comic Sans MS"/>
                          <a:ea typeface="Times New Roman"/>
                        </a:rPr>
                        <a:t>1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322" name="CaixaDeTexto 5"/>
          <p:cNvSpPr/>
          <p:nvPr/>
        </p:nvSpPr>
        <p:spPr>
          <a:xfrm>
            <a:off x="684360" y="18900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fissionais de Enfermagem na Atenção ao Pré-natal e Parto de acordo com os municípios pesquisados/Br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Imagem 3" descr="acre.gif"/>
          <p:cNvPicPr/>
          <p:nvPr/>
        </p:nvPicPr>
        <p:blipFill>
          <a:blip r:embed="rId1"/>
          <a:stretch/>
        </p:blipFill>
        <p:spPr>
          <a:xfrm>
            <a:off x="714240" y="1285920"/>
            <a:ext cx="7756560" cy="4929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http://tbn2.google.com/images?q=tbn:d7w-V8Y0zDtC5M:http://www.luventicus.org/mapas/brasil/acre.gif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844640"/>
          </a:xfrm>
          <a:prstGeom prst="rect">
            <a:avLst/>
          </a:prstGeom>
          <a:ln w="0">
            <a:noFill/>
          </a:ln>
        </p:spPr>
      </p:pic>
      <p:sp>
        <p:nvSpPr>
          <p:cNvPr id="325" name="Estrela de 5 pontas 9"/>
          <p:cNvSpPr/>
          <p:nvPr/>
        </p:nvSpPr>
        <p:spPr>
          <a:xfrm>
            <a:off x="1403280" y="2276640"/>
            <a:ext cx="432000" cy="36036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Estrela de 5 pontas 11"/>
          <p:cNvSpPr/>
          <p:nvPr/>
        </p:nvSpPr>
        <p:spPr>
          <a:xfrm>
            <a:off x="1258920" y="2643120"/>
            <a:ext cx="360360" cy="35424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Estrela de 5 pontas 12"/>
          <p:cNvSpPr/>
          <p:nvPr/>
        </p:nvSpPr>
        <p:spPr>
          <a:xfrm>
            <a:off x="1835280" y="3500280"/>
            <a:ext cx="522000" cy="2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Estrela de 5 pontas 13"/>
          <p:cNvSpPr/>
          <p:nvPr/>
        </p:nvSpPr>
        <p:spPr>
          <a:xfrm>
            <a:off x="6948360" y="4786200"/>
            <a:ext cx="503280" cy="443160"/>
          </a:xfrm>
          <a:prstGeom prst="pie">
            <a:avLst/>
          </a:prstGeom>
          <a:solidFill>
            <a:srgbClr val="ff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835280" y="260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c6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5"/>
          <p:cNvSpPr/>
          <p:nvPr/>
        </p:nvSpPr>
        <p:spPr>
          <a:xfrm>
            <a:off x="75564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Pesquisadore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Bessa, L.F.;Mamede, M.V.;Dotto, L.M.G.;Araruna, R.C;Mamede,F.V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CaixaDeTexto 4"/>
          <p:cNvSpPr/>
          <p:nvPr/>
        </p:nvSpPr>
        <p:spPr>
          <a:xfrm>
            <a:off x="611280" y="26028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enção ao ciclo gravídico-puerperal na Floresta Acriana- região do Juruá/A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611280" y="2708280"/>
            <a:ext cx="799308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Sexo feminino: 9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Idade: 32 a 72 anos (média 55 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</a:rPr>
              <a:t>Parteiras tradicionais: mais idosas, baixa escolaridade ( 43% analfabetas, 49% ensino fundamental incomple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31f48"/>
                </a:solidFill>
                <a:latin typeface="Comic Sans MS"/>
                <a:ea typeface="MS PGothic"/>
              </a:rPr>
              <a:t>Inexiste programa de educação continuada de forma reg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8:14:05Z</dcterms:created>
  <dc:creator>Maria Antonieta</dc:creator>
  <dc:description/>
  <dc:language>en-US</dc:language>
  <cp:lastModifiedBy>Rui</cp:lastModifiedBy>
  <dcterms:modified xsi:type="dcterms:W3CDTF">2010-07-28T00:08:52Z</dcterms:modified>
  <cp:revision>29</cp:revision>
  <dc:subject/>
  <dc:title>Slide 1</dc:title>
</cp:coreProperties>
</file>