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9EE1-A181-4E5B-B224-5A8B93E6EAF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905E-A18F-4B2D-BD44-558FBDB8802E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3653-6531-43D6-AD40-25DEDA8AEA31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9ADA-3ABB-4FDF-95F6-F40C4A0C680A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6495-BEBC-4948-99D0-C4E4880510F5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580D-3CA7-4D4B-B509-3F08171006F5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9B82-39BC-47B0-B80B-D5964AA9098F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7475-B9CC-4350-8585-3B99F448326B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13C0-0234-4E9F-8179-B071D549DE95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D938-A14B-4A59-AF0D-B38DDAC752ED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2D6A-E9DB-4C21-8931-C80108C49C6C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DDE5-F671-4A67-9B3B-0C49EB12F23C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AA4B-DDDB-4196-B704-C9047E65BA32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1514-BDC8-471D-AAC0-A2B22643811B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8234-37C7-4C57-80A9-28D3ECE915D8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4A27-D00D-449E-8B1B-74D4384383BB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E594-AD38-4C90-915C-722D64DC4AE9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66A9-BDC7-4A5B-A6E7-307BF2427E64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78B1-06AB-4918-85C4-0E27663C547E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9095-B26B-4AAE-B486-F838884D4A3B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ED54-3E67-4D00-B6B2-FB1EA7B26B10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15DE-B842-4C23-8BD3-A038E31B5D01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7DE4-B055-43E7-84C1-5A2F5268D0E8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280E-FAAD-44CA-A4DB-1F8FF48BC713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8518-62B5-41EE-9BDB-D98DC18DE666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EBBD-B210-4F73-891B-F1DB88FB8EE5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80F9-F8AD-4871-B874-C7D2201FF522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AB64-6DC8-4C33-B76B-D49E8071F647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6AE04-4AC4-4D2A-A8B1-821D62FC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F2B8F-68E7-4738-9574-EEE1D760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F21A5-0704-45B2-A490-BA10ED35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C9781-6DC3-474D-8200-F0BCDE88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CDF6-7E02-49D8-BAB8-3B46F50E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AD66-6358-4248-9515-17D73EF8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8994-EC2F-46EC-90EE-DD99DFFC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D2D5-DF37-4E3C-994D-88715233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955B-7EEC-4ED5-9CA5-EF313703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0FD9-5720-4DD6-A510-23374116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1ED0-1258-4A0A-8DB6-1DEC942F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9061B-BE25-4D62-887B-77C1C854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B981-221E-4B34-AFAE-179E940F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4F9A-CF38-416E-8FC2-2E8478FD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134C-B4FE-460E-8F37-4F88D844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83D8-5A34-473D-919B-C0395BFC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8F77-E488-46A3-857F-A4CD0267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BDE59-4F3E-499C-B889-BB304F19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288D-5D27-40B6-A7C7-769E6F2C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DB322-7EBB-49DA-8B21-4A5FBCAF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B3BE8-C49D-46A4-99B4-DCFE65D1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9AEA1-B7D3-40EE-98AB-2D4D885B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8BD23-95FB-46B8-A996-A3D9350D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CBC5C-41BB-4292-AD57-2DF809BA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E765-BD7A-4F3F-AB42-C73F8201AB98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FF61-393C-496E-A7F6-49F2C0B33116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an.ufrj.br/" TargetMode="External"/><Relationship Id="rId3" Type="http://schemas.openxmlformats.org/officeDocument/2006/relationships/hyperlink" Target="mailto:tyrrell2004@hotmail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lampada 2"/>
          <p:cNvPicPr/>
          <p:nvPr/>
        </p:nvPicPr>
        <p:blipFill>
          <a:blip r:embed="rId1"/>
          <a:stretch/>
        </p:blipFill>
        <p:spPr>
          <a:xfrm>
            <a:off x="1835280" y="1628640"/>
            <a:ext cx="6264000" cy="3616560"/>
          </a:xfrm>
          <a:prstGeom prst="rect">
            <a:avLst/>
          </a:prstGeom>
          <a:ln w="0">
            <a:noFill/>
          </a:ln>
        </p:spPr>
      </p:pic>
      <p:sp>
        <p:nvSpPr>
          <p:cNvPr id="108" name="Oval 5"/>
          <p:cNvSpPr/>
          <p:nvPr/>
        </p:nvSpPr>
        <p:spPr>
          <a:xfrm>
            <a:off x="1116000" y="0"/>
            <a:ext cx="7632720" cy="6858000"/>
          </a:xfrm>
          <a:prstGeom prst="ellipse">
            <a:avLst/>
          </a:prstGeom>
          <a:gradFill rotWithShape="0">
            <a:gsLst>
              <a:gs pos="0">
                <a:srgbClr val="000080">
                  <a:alpha val="60392"/>
                </a:srgbClr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571320"/>
            <a:ext cx="8282160" cy="31431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33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II CONFERENCIA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EDE GLOBAL DE CENTROS COLABORADORE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MS PARA ENFERMAGEM E OBSTETRICIA</a:t>
            </a:r>
            <a:br>
              <a:rPr sz="2400"/>
            </a:b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TENÇÃO PRIMARIA A SAÚDE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VARIAS PERSPECTIVAS, UMA META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347920" y="4581000"/>
            <a:ext cx="6400800" cy="201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a. Maria Antonieta Rubio Tyrrel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ofessora Titular da EEAN/UFRJ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esidenta de la ALADEFE/UDU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250920" y="333360"/>
            <a:ext cx="8642160" cy="604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7667640" y="5157720"/>
            <a:ext cx="843120" cy="790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america latina"/>
          <p:cNvPicPr/>
          <p:nvPr/>
        </p:nvPicPr>
        <p:blipFill>
          <a:blip r:embed="rId1"/>
          <a:stretch/>
        </p:blipFill>
        <p:spPr>
          <a:xfrm>
            <a:off x="1403280" y="189000"/>
            <a:ext cx="5616720" cy="67420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>
                  <a:alpha val="20000"/>
                </a:srgbClr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MAÇÃO DO ENFERMEIRO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JETO  PEDAGÓGICO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GO DO CONTEXT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Na perspectiva de América Latina cada país tem sua legislação que é a  base da formação básica, fundamental, média e superior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da país tem sua própria história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da história reflete o passado, presente e futuro dos povo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s povos determinam seus regimes e govern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s governos/regimes determinam os destinos da nação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governo e a sociedade se organizam e determinam uma política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AS TERRIVEIS CONSEQUENCIAS DO PENSAMENTO NEGATIVO SÃO PERCEBIDAS MUI TAR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bandeira_brasil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4342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00">
                  <a:alpha val="20000"/>
                </a:srgbClr>
              </a:gs>
              <a:gs pos="100000">
                <a:srgbClr val="00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ITICA NACIONAL DE EDUCAÇÃO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i de Diretrizes e Bases No. 9.394 de 20.12.1996  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Instituições de Educação Superior (Art.52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São instituições “pluridisciplinares” de formação de quadros profissionais de nível superior, de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investigação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, de extensão e do domínio e cultivo do saber humano que se caracteriza por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rodução intelectual institucionalizada (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regional y nacional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I- Um terço do corpo docente, pelo menos,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titulação acadêmica de mestrado e doutorado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II- Um terço do corpo docente é de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tempo integr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 exercício de Autonomia são asseguradas as Universidades (Art.53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II- E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stabelecer planos, programas e projetos de pesquisa cientifica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, produção artística e  atividad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 extensão (projeção social).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E TRATA DE UMA POLÍTICA D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STADO BRASILEI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bandeira_brasil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434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00">
                  <a:alpha val="20000"/>
                </a:srgbClr>
              </a:gs>
              <a:gs pos="100000">
                <a:srgbClr val="00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ITICA NACIONAL DE EDUCAÇÃO 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Lei de Diretrizes e Bases s No. 9.394 de 20.12.1996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Disposições Gerai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sistema de Educação com a colaboração de Agências federais de fomento a cultura e de assistência aos índios desenvolverão programas integrados de ensino e pesquisa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a oferta de educação escolar bilíngue e intercultural…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ART. 86) As instituições de educação superior constituídas como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Universidades se integrarão também, em sua condição de instituições de pesquisa ao Sistema Nacional de Ciência e Tecnologia, nos termos da legislação especific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OLÍTICA DE CONSESSÃO DE BOLSAS EM NÍVEL INTERNACIONAL, NACIONAL, ESTADU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PEC/G, PEC/PG, CAPES, CNPq, FINEP, FAPESP, FAPERJ, etc)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logo"/>
          <p:cNvPicPr/>
          <p:nvPr/>
        </p:nvPicPr>
        <p:blipFill>
          <a:blip r:embed="rId1"/>
          <a:stretch/>
        </p:blipFill>
        <p:spPr>
          <a:xfrm>
            <a:off x="539640" y="2882880"/>
            <a:ext cx="2857680" cy="12668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539640" y="692280"/>
            <a:ext cx="27370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OGRAMA  INICIAÇÃO CIENTIFICA (IC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780000" y="0"/>
            <a:ext cx="5113080" cy="73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ermite a introdução os estudantes de graduação, potencialmente mais promissores, “talentos”, na investigação cientific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 IC se caracteriza como instrumento de apoio teórico e metodológico para a realização de um projeto de pesquisa e constitui um canal adequado de auxilio para a formação de uma nova mentalidade no alun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 Iniciação Científica é um instrumento de formaçã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11280" y="4653000"/>
            <a:ext cx="26017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Garamond"/>
              </a:rPr>
              <a:t>Diretoria de Polític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Garamond"/>
              </a:rPr>
              <a:t>Programas de ‘Graduaçã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Garamond"/>
              </a:rPr>
              <a:t>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539640" y="1052640"/>
            <a:ext cx="2737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OGRAM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DUCAÇÃO TUTORI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PE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3" descr="logo"/>
          <p:cNvPicPr/>
          <p:nvPr/>
        </p:nvPicPr>
        <p:blipFill>
          <a:blip r:embed="rId1"/>
          <a:stretch/>
        </p:blipFill>
        <p:spPr>
          <a:xfrm>
            <a:off x="539640" y="3933720"/>
            <a:ext cx="2857680" cy="12668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3924360" y="404640"/>
            <a:ext cx="4824360" cy="68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SPECTOS GERAIS DA PROPOS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Formação acadêmico –profissional ampl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Realização de atividades que permitam desenvolver uma visão ampla das atividades de ensino, pesquisa e extensão nas I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Interdisciplinaridade que favoreça uma formação acadêmica condicente com o estágio atual de desenvolver a ciênc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Atuação coletiva abrangendo ações conjuntas pelos bolsistas em diferentes estágios de progresso no curso de graduaçã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Integração contínua entre bolsistas e os docentes e alunos do curso de graduação e do programa de pós-graduação, caso existam nas IE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6"/>
          <p:cNvSpPr/>
          <p:nvPr/>
        </p:nvSpPr>
        <p:spPr>
          <a:xfrm>
            <a:off x="395280" y="1052640"/>
            <a:ext cx="31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OGRAMA INSTITUCIONAL DE BOLSAS DE IC  (PIBI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7" descr="logo"/>
          <p:cNvPicPr/>
          <p:nvPr/>
        </p:nvPicPr>
        <p:blipFill>
          <a:blip r:embed="rId1"/>
          <a:stretch/>
        </p:blipFill>
        <p:spPr>
          <a:xfrm>
            <a:off x="539640" y="3933720"/>
            <a:ext cx="2857680" cy="12668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3714840" y="404640"/>
            <a:ext cx="542916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IBIC é um programa centrado na IC de “novos talentos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É dirigido para aluno de graduação e incentivo a formação privilegiando a investigação com qualidade acadêmica, mérito científico e orientação adequada, individual e permanent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s projetos culminam com um trabalho final avaliado e valorizado, fornecendo retorno imediato ao bolsista, com vistas a continuidade de sua formação, de modo particular na pós-graduaçã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bandeira_brasil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4342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00">
                  <a:alpha val="20000"/>
                </a:srgbClr>
              </a:gs>
              <a:gs pos="100000">
                <a:srgbClr val="00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MAÇÃO DO ENFERMEIR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JETO  PEDAGÓGICO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Reforma do país x reforma da educação x saúd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Resolução CNS/CES, No. 3 de 07.11.2001-DNES: objetivo de organizar os Currículos das Instituições de Ensino Superior (IES) do paí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ção profissional do enfermeiro deve orientar-se no sentido de abranger quatro dimensões fundamentais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nstruções sobre a saúde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 cuidados básicos de saúde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ações integradas de saúde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novas metodologias consistentes com competências do saber-fazer do enfermeiro e, assim, competências do conhecimento de sua área profissiona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ilma de Carvalho, Profa. Emérita da UFRJ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bandeira_brasil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4342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00">
                  <a:alpha val="20000"/>
                </a:srgbClr>
              </a:gs>
              <a:gs pos="100000">
                <a:srgbClr val="00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MAÇÃO DO ENFERMEIRO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JETO PEDAGÓGICO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rofissionais com formação generalista são capazes de atuar em diferentes níveis e graus de complexidade, na perspectiva do SU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tenção Primaria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tenção Secundária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tenção Terciari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ressupostos fundamentai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quidad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Integralidad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Universalidad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america latina"/>
          <p:cNvPicPr/>
          <p:nvPr/>
        </p:nvPicPr>
        <p:blipFill>
          <a:blip r:embed="rId1"/>
          <a:stretch/>
        </p:blipFill>
        <p:spPr>
          <a:xfrm>
            <a:off x="1403280" y="189000"/>
            <a:ext cx="5616720" cy="67420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>
                  <a:alpha val="20000"/>
                </a:srgbClr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RMAÇÃO DO ENFERMEIRO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RASIL(ABEN/ESCOLAS/FACULDADES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NFERMEIRO (Bacharel/Licenciado) - Curso de Graduaçã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ÉCNICO DE ENEFERMAGEM- Curso profissionaliza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UXILIAR DE ENFERMAGEM – Curso profissionaliza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 AMERICA LATINA (ALADEFE – UDUA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CaixaDeTexto 5"/>
          <p:cNvSpPr/>
          <p:nvPr/>
        </p:nvSpPr>
        <p:spPr>
          <a:xfrm>
            <a:off x="468360" y="5013360"/>
            <a:ext cx="8675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CENCIADO EN ENFERMERÍA - Curso de Graduaçã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BSTETRIZ (ICM) - Curso de Graduaçã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FERMEIRO OBSTETRA - CURSO DE ESPECIALIZAÇÃO no Brasi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bandeira_brasil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4342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142920" y="0"/>
            <a:ext cx="9001080" cy="6858000"/>
          </a:xfrm>
          <a:prstGeom prst="rect">
            <a:avLst/>
          </a:prstGeom>
          <a:gradFill rotWithShape="0">
            <a:gsLst>
              <a:gs pos="0">
                <a:srgbClr val="003300">
                  <a:alpha val="20000"/>
                </a:srgbClr>
              </a:gs>
              <a:gs pos="100000">
                <a:srgbClr val="00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ITICA NACIONAL DE EDUCAÇÃO 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i de Diretrizes e Bases No. 9.394 de 20.12.1996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929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Processos formativos que se desenvolvem na vida familiar, na convivência humana, no trabalho, nas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instituições de pesquisa,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nos movimentos sociais e organizações da sociedade civil e nas manifestações culturai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arco referencial da aprendizagem dos alunos, as situações de enfermagem são consideradas pontos focais de questões básicas que vão ao encontro da realidade social, com todas as implicações teóricas e conseqüências práticas, e que envolvem temas como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natureza da enfermagem e o sentido do seu saber e de sua prática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visão da totalidade e a compreensão da realidade homem-mundo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valor dos cuidados de enfermagem, no âmbito das ações de saúde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tilidade do trabalho profissional executado com a equipe de enfermagem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responsabilidade social dos enfermeiro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5370480" y="2942280"/>
            <a:ext cx="3375000" cy="703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a886e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UMA CANO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3" descr="barcos07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andeira_brasil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4342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0"/>
            <a:ext cx="9144000" cy="7101000"/>
          </a:xfrm>
          <a:prstGeom prst="rect">
            <a:avLst/>
          </a:prstGeom>
          <a:gradFill rotWithShape="0">
            <a:gsLst>
              <a:gs pos="0">
                <a:srgbClr val="003300">
                  <a:alpha val="20000"/>
                </a:srgbClr>
              </a:gs>
              <a:gs pos="100000">
                <a:srgbClr val="00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ITICA NACIONAL DE EDUCAÇÃO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MAÇÃO DO ENFERMEIRO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ependência das possibilidades e dos limites da enfermagem, no Brasil e no mundo, no estilo e nos modos que o enfermeiro deve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ber-pensar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 estar preparado para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ber-fazer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uar no processo de assistir em saúde, nas condições instituciona-lizadas e em todas as que dizem respeito a realidade social mesma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erecer ajuda aos clientes nas condições do ciclo vital, nos desequilíbrios da saúde e na prevenção das doenças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ar condições favoráveis à superação de crises e às situações emergenciais; 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car-se do ponto de vista crítico e da visão de totalidade quanto ao mundo e à ordem social implicada, às abordagens de conjunto que interessam ao espírito coletivo e solidário, em todas as questões pertinentes ao público, ao processo de trabalho em saúde, e a posição política adequada às lutas associativas e às defesas da profissã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lampada 2"/>
          <p:cNvPicPr/>
          <p:nvPr/>
        </p:nvPicPr>
        <p:blipFill>
          <a:blip r:embed="rId1"/>
          <a:stretch/>
        </p:blipFill>
        <p:spPr>
          <a:xfrm>
            <a:off x="324000" y="3645000"/>
            <a:ext cx="3708360" cy="21398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00">
                  <a:alpha val="80000"/>
                </a:srgbClr>
              </a:gs>
              <a:gs pos="100000">
                <a:srgbClr val="00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316872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MAÇÃ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ENFERMEIR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JETO  PEDAGÓGICO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14800" y="188640"/>
            <a:ext cx="59292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 formação em Enfermagem determina: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Professional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generalista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(graduação); em Licenciatura (graduação)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m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especialização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e outros (pós-graduação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lato-senso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);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mestrado e doutorado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(pós-graduação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stricto-sensu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A formação do Enfermeiro Generalista: determina a formação para o exercício profissional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I – Atenção à saúde individual e coletiva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II- Tomada de decisões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III- Comunicação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IV- Liderança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V – Administração e Gerência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VI- Educação  Permanente.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lampada 2"/>
          <p:cNvPicPr/>
          <p:nvPr/>
        </p:nvPicPr>
        <p:blipFill>
          <a:blip r:embed="rId1"/>
          <a:stretch/>
        </p:blipFill>
        <p:spPr>
          <a:xfrm>
            <a:off x="179280" y="3573360"/>
            <a:ext cx="3959280" cy="2284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00">
                  <a:alpha val="80000"/>
                </a:srgbClr>
              </a:gs>
              <a:gs pos="100000">
                <a:srgbClr val="00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357360" y="213840"/>
            <a:ext cx="5616360" cy="688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mpreende os conteúdos de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iências Biológicas e da Saúde; as Ciências Humanas e Sociais; e as Ciências da Enfermagem ( Fundamentos, Assistência, Administração e Ensino de Enfermagem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briga a inclusão de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práticas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(estágios) supervisionadas..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 projeto pedagógico do Curso é construído coletivamente,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entrado no aluno, como sujeito do aprendizagem e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apoiado pelo professor como facilitador e mediador do processo ensino-aprendizagem..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Na Universidade é  através da articulação do ensino-aprendizagem/investigação/extensão/ assistência.</a:t>
            </a:r>
            <a:r>
              <a:rPr b="1" i="1" lang="pt-BR" sz="20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79280" y="333360"/>
            <a:ext cx="316872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MAÇÃ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ENFERMEIR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JETO  PEDAGÓGI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8" descr="lampada 2"/>
          <p:cNvPicPr/>
          <p:nvPr/>
        </p:nvPicPr>
        <p:blipFill>
          <a:blip r:embed="rId1"/>
          <a:stretch/>
        </p:blipFill>
        <p:spPr>
          <a:xfrm>
            <a:off x="250920" y="3573360"/>
            <a:ext cx="3959280" cy="22845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00">
                  <a:alpha val="70196"/>
                </a:srgbClr>
              </a:gs>
              <a:gs pos="100000">
                <a:srgbClr val="00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03280" y="144360"/>
            <a:ext cx="576108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currículo deverá utilizar metodologias e critérios para acompanhamento e avaliação da dinâmica curricular definidos pelas IES a qual pertenc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clusão de Curso : TCC orientado pelo profess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esse contexto legal a formação do Enfermeiro determina um Perfil do Formando/Egresso/Profissiona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qualificado para o exercício profissional rigor científico e intelectual e pautado em princípios éticos; capaz de conhecer e intervir nos problemas/ situações de saúde-doença mais prevalentes no perfil epidemiológico nacional, regional e local onde atu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-360" y="333000"/>
            <a:ext cx="374508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MAÇÃ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DO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FERMEIR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JETO  PEDAGÓGICO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lampada 2"/>
          <p:cNvPicPr/>
          <p:nvPr/>
        </p:nvPicPr>
        <p:blipFill>
          <a:blip r:embed="rId1"/>
          <a:stretch/>
        </p:blipFill>
        <p:spPr>
          <a:xfrm>
            <a:off x="250920" y="3573360"/>
            <a:ext cx="3959280" cy="22845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00">
                  <a:alpha val="70196"/>
                </a:srgbClr>
              </a:gs>
              <a:gs pos="100000">
                <a:srgbClr val="00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635280" y="260280"/>
            <a:ext cx="5329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CONTEXTO NO BRASIL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PÓS-GRADUAÇÃO LATU SENSU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tualização, educação permanente , aperfeiçoamento,  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ESPECIALIZAÇÕES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PÓS-GRADUAÇÃO STRICTU</a:t>
            </a: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 SENSU: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Mestrado E Doutorado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Programas  Pós-Doutorado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 ENFERMEIRA OBSTET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Título de Especialis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odalidades: Curso Presencial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urso Multiprofissional modalidade de Residência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urso Multiprofissional à Distânci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-360" y="333360"/>
            <a:ext cx="37450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MAÇÃ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ENFERMEIR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STETRA (ESPECIALISTA)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BENF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CM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lampada 2"/>
          <p:cNvPicPr/>
          <p:nvPr/>
        </p:nvPicPr>
        <p:blipFill>
          <a:blip r:embed="rId1"/>
          <a:stretch/>
        </p:blipFill>
        <p:spPr>
          <a:xfrm>
            <a:off x="250920" y="3573360"/>
            <a:ext cx="3959280" cy="22845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00">
                  <a:alpha val="70196"/>
                </a:srgbClr>
              </a:gs>
              <a:gs pos="100000">
                <a:srgbClr val="00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635280" y="260280"/>
            <a:ext cx="5329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Segundo a OPS/OMS a Enfermeira deve estar preparada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Educar para estimular e facilitar a auto-suficiência das coletividades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Participar nos trabalhos de grupos multiprofissionais e inter-institucionais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Contribuir na ampliação de cobertura das famílias e dos grupos de alto risco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Demonstrar capacidade nas ações comunitárias para enfrentar e lidar com doenças locais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Atuar profissionalmente para reduzir os efeitos das doenças crônicas de longa duração e as incapacidades pertinentes ao público, trabalho em saúde, à posição política, e as lutas associativas e as defesas da profissã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-360" y="333000"/>
            <a:ext cx="374508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MAÇÃ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ENFERMEIRO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lampada 2"/>
          <p:cNvPicPr/>
          <p:nvPr/>
        </p:nvPicPr>
        <p:blipFill>
          <a:blip r:embed="rId1"/>
          <a:stretch/>
        </p:blipFill>
        <p:spPr>
          <a:xfrm>
            <a:off x="250920" y="3573360"/>
            <a:ext cx="3959280" cy="22845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00">
                  <a:alpha val="70196"/>
                </a:srgbClr>
              </a:gs>
              <a:gs pos="100000">
                <a:srgbClr val="00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14880" y="260280"/>
            <a:ext cx="47498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BLIOGRAFIA BÁS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asil/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S/O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xtos da EEAN/UFR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utras 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sertaçõ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rtigos publicad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squisa na Interne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-360" y="333000"/>
            <a:ext cx="374508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MAÇÃ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ENFERMEIRO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lampada 2"/>
          <p:cNvPicPr/>
          <p:nvPr/>
        </p:nvPicPr>
        <p:blipFill>
          <a:blip r:embed="rId1"/>
          <a:stretch/>
        </p:blipFill>
        <p:spPr>
          <a:xfrm>
            <a:off x="1405080" y="1268280"/>
            <a:ext cx="7488000" cy="43214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7"/>
          <p:cNvSpPr/>
          <p:nvPr/>
        </p:nvSpPr>
        <p:spPr>
          <a:xfrm>
            <a:off x="0" y="21420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04720" y="1000080"/>
            <a:ext cx="78123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 ALEGRIA NÃO CHEGA APENAS NO QUE  ENCONTRAMOS,  MAIS  FAZ PARTE  DO  PROCESSO DA  BUSCA. DE ENSINAR  E  APRENDER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ÃO  PODE DAR-SE FORA  DA BUS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ORA DABELEZA E DA ALEGRIA </a:t>
            </a:r>
            <a:br>
              <a:rPr sz="2400"/>
            </a:b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Paulo Freire</a:t>
            </a:r>
            <a:br>
              <a:rPr sz="2800"/>
            </a:b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www.eean.ufrj.br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tyrrell2004@hotmail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ww.saúde.gov.b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611280" y="287280"/>
            <a:ext cx="1965240" cy="18446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9"/>
          <p:cNvSpPr/>
          <p:nvPr/>
        </p:nvSpPr>
        <p:spPr>
          <a:xfrm rot="20532000">
            <a:off x="-433080" y="3579840"/>
            <a:ext cx="682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79"/>
                </a:solidFill>
                <a:latin typeface="Palace Script MT"/>
              </a:rPr>
              <a:t>Muito  Obrigado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79"/>
                </a:solidFill>
                <a:latin typeface="Palace Script MT"/>
              </a:rPr>
              <a:t>Muchas Gracias !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CaixaDeTexto 5"/>
          <p:cNvSpPr/>
          <p:nvPr/>
        </p:nvSpPr>
        <p:spPr>
          <a:xfrm>
            <a:off x="539640" y="2205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ww.aladefe.or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barco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57080" y="733320"/>
            <a:ext cx="8136000" cy="606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um rio longo de difícil travessia, havia um barqueiro que atravessava as pessoas de um lado para  outro. 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uma das viagens, estavam um advogado e uma professora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Como quem gosta de falar muito, o advogado perguntou ao barqueir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- Companheiro, você entende de leis?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- Não. Respondeu o barqueiro.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 o advogado compadecido diz: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É uma pena, você perdeu metade da vida!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barco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826920" y="636480"/>
            <a:ext cx="792180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 professora muito social entra na conversa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- Senhor barqueiro, você sabe ler e escrever?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- Também não. – Respondeu o remador.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- Que pena! – Consola-se a professora 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Você perdeu metade da vida!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barcos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Rectangle 4" descr=""/>
          <p:cNvPicPr/>
          <p:nvPr/>
        </p:nvPicPr>
        <p:blipFill>
          <a:blip r:embed="rId2"/>
          <a:stretch/>
        </p:blipFill>
        <p:spPr>
          <a:xfrm>
            <a:off x="444600" y="-23760"/>
            <a:ext cx="8102520" cy="6595920"/>
          </a:xfrm>
          <a:prstGeom prst="rect">
            <a:avLst/>
          </a:prstGeom>
          <a:ln w="0">
            <a:noFill/>
          </a:ln>
        </p:spPr>
      </p:pic>
      <p:sp>
        <p:nvSpPr>
          <p:cNvPr id="124" name="CaixaDeTexto 4"/>
          <p:cNvSpPr/>
          <p:nvPr/>
        </p:nvSpPr>
        <p:spPr>
          <a:xfrm>
            <a:off x="1116000" y="5300640"/>
            <a:ext cx="73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VOCÊS PERDERAM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TODA A VIDA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Paulo%20freire1"/>
          <p:cNvPicPr/>
          <p:nvPr/>
        </p:nvPicPr>
        <p:blipFill>
          <a:blip r:embed="rId1"/>
          <a:stretch/>
        </p:blipFill>
        <p:spPr>
          <a:xfrm>
            <a:off x="0" y="0"/>
            <a:ext cx="565308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419640" y="285840"/>
            <a:ext cx="5724360" cy="63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Paulo Freire, ilustre e grande educador brasileiro disse certa vez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"Não há saber ma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ou saber meno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Há saberes diferente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PS/AB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6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ense nisso e valorize todas as pessoas com as quais tenha contato. Cada uma delas tem algo de diferente para ensinar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Paulo%20freire1"/>
          <p:cNvPicPr/>
          <p:nvPr/>
        </p:nvPicPr>
        <p:blipFill>
          <a:blip r:embed="rId1"/>
          <a:stretch/>
        </p:blipFill>
        <p:spPr>
          <a:xfrm>
            <a:off x="108000" y="115920"/>
            <a:ext cx="5438880" cy="6597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MAÇÃO DO ENFERMEIR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LEXÕES  INICIAI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0040" y="171432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Formar é mais do que somente treinar…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O preparo científico do professor(a) deve coincidir com sua retidão ética…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Não podemos assumir-nos como sujeitos de procura, de decisão, de ruptura, de opção, como sujeitos transformadores, a não ser assumindo-nos como sujeitos éticos…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Reconhecer que somos éticos é reconhecer que somos seres condicionados e não determinados. Reconhecer que a história é tempo de possibilidade e não de determinismo, que o futuro é problemático mais não é inexorável…”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Mudar é difícil mais é possível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Paulo Freire: Pedagogia da Autonomia: saberes necessários à prática educativa. São Paulo: Paz e Terra, 1996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"/>
          <p:cNvPicPr/>
          <p:nvPr/>
        </p:nvPicPr>
        <p:blipFill>
          <a:blip r:embed="rId1"/>
          <a:stretch/>
        </p:blipFill>
        <p:spPr>
          <a:xfrm>
            <a:off x="4848120" y="0"/>
            <a:ext cx="42958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RMAÇÃO DO ENFERMEIR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JETO  PEDAGÓGICO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ABERES DA PRÁTICA EDUCATIVA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EDAGOGIA DA ESPERANÇA: Paulo Freir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Não há docência sem discência - ensinar exige: reconhecer mudanças no mundo – a profissão – o mercado de trabalh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rigor metódico; pesquisa; respeito aos saberes dos educandos; criticidade; estética e ética; corporificação das palavras pelo exempl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ceitação do novo, repulsa a quaisquer forma de discriminação; reflexão crítica sobre a prática;  reconhecimento e assunção da identidade  cultur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nsinar não é transferir conhecimento – ensinar exig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nsciência do inacabado; reconhecimento do ser condicionado; respeito a autonomia do ser educando; bom senso; humildade, tolerância e luta dos direitos dos educandos; apreensão da realidade; alegria e esperança; convicção de que a mudança é possíve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A EDUCAÇÃO SÓ NÃO TRANSFORMA A SOCIEDAD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SEM  ELA A SOCIEDADE NÃO MUDA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FREIRE"/>
          <p:cNvPicPr/>
          <p:nvPr/>
        </p:nvPicPr>
        <p:blipFill>
          <a:blip r:embed="rId1"/>
          <a:stretch/>
        </p:blipFill>
        <p:spPr>
          <a:xfrm>
            <a:off x="0" y="0"/>
            <a:ext cx="654048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MAÇÃO DO ENFERMEIR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JETO  PEDAGÓGIC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BERES  DA PRÁTICA EDUCATIVA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nsinar é uma especificidade humana - ensinar exig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gurança, competência profissional, e generosidade; compromisso; compreender que a educação é uma forma de intervenção no mundo; liberdade e autoridade; tomada consciente de decisões; saber escutar; reconhecer que a educação é ideológica; disponibilidade para o diálogo; querer bem a os educando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NINGUÉM É SUJEITO DA AUTONOMÍA DE NINGUÉ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CONHECER É TAREFA DE SUJEITOS, NÃO DE OBJETOS. E É COMO SUJEITO E SOMENTE ENQUANTO SUJEITO, QUE O HOMEM PODE REALMENTE  CONHEC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9:01:59Z</dcterms:created>
  <dc:creator>Maria Antonieta</dc:creator>
  <dc:description/>
  <dc:language>en-US</dc:language>
  <cp:lastModifiedBy>Toshiba</cp:lastModifiedBy>
  <dcterms:modified xsi:type="dcterms:W3CDTF">2010-07-28T02:02:13Z</dcterms:modified>
  <cp:revision>223</cp:revision>
  <dc:subject/>
  <dc:title>UNIVERSIDAD NACIONAL DE TRUJILLO/PERU UNIVERSIDAD FEDERAL DE RIO DE JANEIRO/BRASIL   COLOQUIO NACIONAL DE INVESTIGACIÓN ENCUENTRO BINACIONAL: INICIACIÓN CIENTÍFICA</dc:title>
</cp:coreProperties>
</file>