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1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607-EE62-40A3-A98A-1B1E117A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39-C337-44D6-836B-DACD5E25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3B804-1256-4E78-AFC2-AC4BFB3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192F7-641E-40B0-BFC0-9191E88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C1F1E-2742-490C-BB46-781D14F0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FBEAC-8296-467C-8674-A33296E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B9608-3C8E-4F47-85E6-C762654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45FBD-5DC8-48CE-B2AF-344CE08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FB3A5-5B00-414A-AA91-E6F80A2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8A3A7-24C0-457A-B4FF-0A09027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ECCE6-AE2A-4C01-9C60-6A5B88EB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F4586-3411-4CF6-8758-EE7CD0D8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8C8-7C11-420E-81DD-5700DC2A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CB1A6-B294-4B72-A6BF-6533547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08E25-F333-4F53-A4E2-92E3909C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B3527-65F2-47F2-B527-1350894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5B92F-C4E8-4CEA-B81E-A8545E7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28140-4E18-405C-86AD-E57A1473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97D4-713A-466A-8334-68038063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6267C-2EBB-4274-91E1-3E2DA45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CCA43-B4CB-4044-AE33-30542E8F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EF589-B965-4CD3-BDDD-EB197CBB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D3403-A951-4C3C-AD88-49B20FC8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DB2-2842-4A4B-A67A-5CCF041E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65F95-5AA6-4550-B438-0629408D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9771-CB20-4121-9F13-93049C29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8C716-3F42-43C8-B072-58A807DC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5119B-0847-45C0-831E-A6D09B9A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D88FB-32BF-434F-B3FD-91EAEE4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65E8-8E29-432E-897F-10AAA69F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A3BD-F7FB-49F7-9962-C6A1800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C4E1-9510-4407-9F24-FCE2DEF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CD8-AA6E-40FC-909A-1C7AC0E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F450F-3E07-488D-A34E-41AE753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E876F-4D48-47A2-B345-C0026B9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3D4C-4F7F-4805-A4EF-93A685B1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EA0AB-AE83-40A1-BDD3-EC32AB72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B563C-6EC1-443E-AB99-D55BE8CE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FECD-64AC-4D0F-8C7C-A772AE7B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4031-620A-401D-A757-0BE15D1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3742C-2460-4FA9-965C-9D4F79F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6626-E5E1-4C05-91B2-0D3020FD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851E-0AD0-46F8-A918-5AE3D48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BD6-12F5-4E7B-B9F5-4483BB9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7529-F5FD-467A-B462-F995E32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ACFE-48F9-40AE-A465-FB0B6F9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2DFC-FF4C-4524-AEF4-EB6D5E4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A8B2-DAF9-4B9E-9FFE-A83B741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9FD3-F78F-44B1-B842-9718EB3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2E0A-147A-4180-985F-BEDB3EB5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437D-FCC2-457B-A19C-6552A7C8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B7621-6856-4A12-97E9-ADBCFA86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A8135-6DA7-4863-A1E6-5C5A9C5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75905-AC01-43D0-8AEE-42331394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945-1C47-45F7-B569-5612A7C5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DCB24-F3D5-49B4-9199-2EA3E519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7E57C-C02A-4C82-9776-E4B1C374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15AA1-010A-4ED0-BC4E-155D14B8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CF883-66D8-4827-A00E-6ED51848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21FE-0F4A-48DC-A9F9-2F8DCFC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5826D-051E-4D35-89D2-94F2C95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5F1CFE-3FC4-4134-82D5-CC43998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7907A-9F78-420B-A272-964F5879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2355E-AD42-4B97-8DA2-3A005A58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70A6-CACE-4E83-902C-18F47FC1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4D8-C45A-46B4-B0E6-7C91ADA4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F7B9D-D903-4DEE-8569-2B6CDD6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74F5-8D8D-42C8-949A-5758878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5126-F3FB-4E47-8E9B-ED60FC18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1846-0B51-4A6D-BAAA-B6A7855B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26A3-9E06-497D-B0AA-11425815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48D5-CB53-44CF-96F4-32635EB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6C2E-54A0-42C4-9F82-FAF555E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15C3-A9A0-4C5A-9B55-F6C4FCF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958A-B2DA-4B15-B3C2-67FE0ADF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D3AA-30C2-40F6-99CC-36108A55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2C5-5B72-4C40-AA8F-2049054F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A827-9CB2-4EFE-818D-DD6B7094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36B2-9339-44C6-A30C-B06287A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92BE-D311-44A9-8650-07E7B2FE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67BE-6B5F-4607-BCE4-D752C56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B551-17A4-4E17-AD97-2180244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C14F2-AD1B-4038-B40E-03D48BB8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9BA8-AAD4-45E6-B6B6-BE9A9BC0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B1BC2-3847-4495-8D41-4397B7B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E416-BB53-48E4-B55D-1F94DFA6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E403-8802-485D-947E-70EEC55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C9F-DDE1-46A3-8AB3-509FA40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BEF2E-F547-4EE9-B4FF-4CDF119F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57766-C5EB-4974-8082-8881F7C5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AB7F-01F7-485F-A89F-5300F44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BFD7-6C2A-441F-BE8C-C08C2C14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79291-B573-4A51-8075-9F9417F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CAE4-1CEC-459E-96B8-4FA09F9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65AF-893B-4F72-9D6D-FBDA7E34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06C4-CD4D-44CF-B937-C68E0136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3F02-21C6-4592-B2A9-6C88B661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8AC5-8DF5-4521-8E63-CAC502B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463-E4D6-4A1E-B8A1-CC13F083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3D9E-9F76-4EA9-A293-5FB6651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D075-720A-49A6-9DE6-4040ECD6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708DC-3519-4AC0-B330-5E17EC3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A47D-6297-426F-BBD0-5A5641FE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EF926-C134-4704-9374-E7FC17E4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44DF0-28F0-4ECC-A030-95A6D63C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97BB58-F4DA-4D33-A6AC-3FA20664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FF9CF8-1C74-444B-9A9E-837C44C0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8E949-4372-47F1-AEB8-D1596148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33BF8-6B1F-4011-8CE4-2A13862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CD0-09C6-4A33-AF98-BD3D50A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7B5E9-457E-4420-98BF-AC1F2CB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88E33-AB59-417B-A94D-03C4E02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0FF59-6640-45CA-90DA-2E3F841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9A496B-F04D-4F54-9925-449B3AA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B8BB4E-B96B-443F-899E-AAFFED84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E229A-7A27-495F-94E3-8B82B49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CCEDB-0B5E-4321-B0D2-FCE4030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C926E-C5FB-4DB0-9489-D696A1F9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51399-FDBC-4CB2-B012-E3E028E2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7FBA2-5A98-4185-8B39-3A40C69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650D-7FA7-4C6A-BC46-634F316F7D95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6D72-7328-471E-9C6C-7372394BD3D8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edondar Retângulo em um Canto Diagonal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edondar Retângulo em um Canto Diagonal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F14-E228-4BAF-BF55-E725C2F01711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tângu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64A-C1C7-4083-9896-1692712C4D15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2B36-223A-4A24-84FD-18B9AB20D057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tângu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140-B049-47DE-BA08-A25B856E2495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tângulo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ângulo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857F-2E93-40ED-A8E1-AA839DBE3BF0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edondar Retângulo em um Canto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edondar Retângulo em um Canto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tângulo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6AE2-22B8-4CB2-A958-F6DB27BF379E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0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tângulo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eaebde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C08-21FF-40CF-A4A6-9CD3BDE1B866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C878-432C-481E-A3B2-6A73BF170092}" type="slidenum">
              <a:rPr b="0" lang="pt-B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2"/>
          <a:stretch/>
        </p:blipFill>
        <p:spPr>
          <a:xfrm>
            <a:off x="244440" y="225360"/>
            <a:ext cx="9277560" cy="20606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0" y="3019320"/>
            <a:ext cx="8964720" cy="38656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 papel das enfermeiras obstétricas/obstetrizes  na manutenção das mulheres distante da rota da morte materna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6"/>
          <p:cNvSpPr/>
          <p:nvPr/>
        </p:nvSpPr>
        <p:spPr>
          <a:xfrm>
            <a:off x="250920" y="4149720"/>
            <a:ext cx="8642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ssociação Brasileira de Obstetrizes e Enfermeiras Obstétricas – ABE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romisso com a qualificação profi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Imagem 3" descr="logoabenfo.JPG"/>
          <p:cNvPicPr/>
          <p:nvPr/>
        </p:nvPicPr>
        <p:blipFill>
          <a:blip r:embed="rId2"/>
          <a:stretch/>
        </p:blipFill>
        <p:spPr>
          <a:xfrm>
            <a:off x="2484360" y="549360"/>
            <a:ext cx="371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259920" cy="1500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50920" y="192672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  ABENFO em reunião do Conselho Diretor Nacional,em outubro de 2007, adotou oficialmente as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Competências Essenciais para o Exercício da Obstetríci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da Confederação Internacional das Parteiras ICM/OMS/FIGO de 2002, como padrão de qualidade para a definição das competências da enfermeira obstetra, neonatal e obstetriz no Brasil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just">
              <a:lnSpc>
                <a:spcPct val="90000"/>
              </a:lnSpc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79280" y="1268280"/>
            <a:ext cx="8723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80000"/>
              </a:lnSpc>
              <a:buClr>
                <a:srgbClr val="eaebd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Seleção do padrão de qualidade: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80000"/>
              </a:lnSpc>
              <a:buClr>
                <a:srgbClr val="eaebd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41e7d"/>
                </a:solidFill>
                <a:latin typeface="Comic Sans MS"/>
              </a:rPr>
              <a:t>Competências Essenciais para o Exercício da Obstetrícia</a:t>
            </a:r>
            <a:r>
              <a:rPr b="0" lang="pt-BR" sz="2000" spc="-1" strike="noStrike">
                <a:solidFill>
                  <a:srgbClr val="841e7d"/>
                </a:solidFill>
                <a:latin typeface="Comic Sans MS"/>
              </a:rPr>
              <a:t> /ICM,2002.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onsiderado mundialmente como o Padrão para o Alcance da Excelência na Atenção Materna e Neonatal,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escreve o modelo de cuidado oferecido pela enfermeira obstetra, enfermeira neonatal e obstetriz,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34848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escreve os conhecimentos, habilidades e atitudes imprescindíveis que o profissional necessita ter para o desempenho de uma prática profissional competente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1" name="Retângulo 4"/>
          <p:cNvSpPr/>
          <p:nvPr/>
        </p:nvSpPr>
        <p:spPr>
          <a:xfrm>
            <a:off x="5542200" y="836640"/>
            <a:ext cx="3179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tângulo 3"/>
          <p:cNvSpPr/>
          <p:nvPr/>
        </p:nvSpPr>
        <p:spPr>
          <a:xfrm>
            <a:off x="250920" y="1916280"/>
            <a:ext cx="8713800" cy="24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eaebde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Processo de conversação social dos envolvi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metido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à apreciação das 14 Seccionais ( âmbito nacional) sobre a pertinência e respaldo legal de cada uma das competências na realidade brasil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ângulo 4"/>
          <p:cNvSpPr/>
          <p:nvPr/>
        </p:nvSpPr>
        <p:spPr>
          <a:xfrm>
            <a:off x="5542200" y="836640"/>
            <a:ext cx="3179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Imagem 3" descr="mapa_brasil.gif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9360">
            <a:solidFill>
              <a:srgbClr val="796f39"/>
            </a:solidFill>
            <a:miter/>
          </a:ln>
        </p:spPr>
      </p:pic>
      <p:sp>
        <p:nvSpPr>
          <p:cNvPr id="475" name="CaixaDeTexto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stados/Seccionais da ABENFO particip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tângulo 7"/>
          <p:cNvSpPr/>
          <p:nvPr/>
        </p:nvSpPr>
        <p:spPr>
          <a:xfrm>
            <a:off x="7451640" y="1773360"/>
            <a:ext cx="7164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tângulo 8"/>
          <p:cNvSpPr/>
          <p:nvPr/>
        </p:nvSpPr>
        <p:spPr>
          <a:xfrm>
            <a:off x="6877080" y="4653000"/>
            <a:ext cx="7128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tângulo 9"/>
          <p:cNvSpPr/>
          <p:nvPr/>
        </p:nvSpPr>
        <p:spPr>
          <a:xfrm>
            <a:off x="6588000" y="3716280"/>
            <a:ext cx="7164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tângulo 11"/>
          <p:cNvSpPr/>
          <p:nvPr/>
        </p:nvSpPr>
        <p:spPr>
          <a:xfrm>
            <a:off x="4284720" y="198900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tângulo 12"/>
          <p:cNvSpPr/>
          <p:nvPr/>
        </p:nvSpPr>
        <p:spPr>
          <a:xfrm>
            <a:off x="5651640" y="5589720"/>
            <a:ext cx="71280" cy="7272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tângulo 13"/>
          <p:cNvSpPr/>
          <p:nvPr/>
        </p:nvSpPr>
        <p:spPr>
          <a:xfrm>
            <a:off x="8101080" y="2133720"/>
            <a:ext cx="7128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tângulo 14"/>
          <p:cNvSpPr/>
          <p:nvPr/>
        </p:nvSpPr>
        <p:spPr>
          <a:xfrm>
            <a:off x="5148360" y="515772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tângulo 15"/>
          <p:cNvSpPr/>
          <p:nvPr/>
        </p:nvSpPr>
        <p:spPr>
          <a:xfrm>
            <a:off x="5796000" y="357336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tângulo 16"/>
          <p:cNvSpPr/>
          <p:nvPr/>
        </p:nvSpPr>
        <p:spPr>
          <a:xfrm>
            <a:off x="7308720" y="3068640"/>
            <a:ext cx="7164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tângulo 17"/>
          <p:cNvSpPr/>
          <p:nvPr/>
        </p:nvSpPr>
        <p:spPr>
          <a:xfrm>
            <a:off x="4932360" y="602136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tângulo 19"/>
          <p:cNvSpPr/>
          <p:nvPr/>
        </p:nvSpPr>
        <p:spPr>
          <a:xfrm>
            <a:off x="8388360" y="162864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tângulo 20"/>
          <p:cNvSpPr/>
          <p:nvPr/>
        </p:nvSpPr>
        <p:spPr>
          <a:xfrm>
            <a:off x="6012000" y="458136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tângulo 22"/>
          <p:cNvSpPr/>
          <p:nvPr/>
        </p:nvSpPr>
        <p:spPr>
          <a:xfrm>
            <a:off x="1044720" y="3789360"/>
            <a:ext cx="7128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7"/>
          <p:cNvSpPr/>
          <p:nvPr/>
        </p:nvSpPr>
        <p:spPr>
          <a:xfrm>
            <a:off x="6372360" y="39258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6877080" y="28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5148360" y="5078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3"/>
          <p:cNvSpPr/>
          <p:nvPr/>
        </p:nvSpPr>
        <p:spPr>
          <a:xfrm>
            <a:off x="507672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☻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4"/>
          <p:cNvSpPr/>
          <p:nvPr/>
        </p:nvSpPr>
        <p:spPr>
          <a:xfrm>
            <a:off x="529272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651672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1"/>
          <p:cNvSpPr/>
          <p:nvPr/>
        </p:nvSpPr>
        <p:spPr>
          <a:xfrm>
            <a:off x="1258920" y="285264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11"/>
          <p:cNvSpPr/>
          <p:nvPr/>
        </p:nvSpPr>
        <p:spPr>
          <a:xfrm>
            <a:off x="4716360" y="692280"/>
            <a:ext cx="7164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7308720" y="3789360"/>
            <a:ext cx="23400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Ac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Ba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Distrito Fed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Minas Ger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Par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Piauí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Rio de Janei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Rio Grande do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Rio Grande do S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São Pa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Santa Cat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0"/>
          <p:cNvSpPr/>
          <p:nvPr/>
        </p:nvSpPr>
        <p:spPr>
          <a:xfrm>
            <a:off x="125892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9"/>
          <p:cNvSpPr/>
          <p:nvPr/>
        </p:nvSpPr>
        <p:spPr>
          <a:xfrm>
            <a:off x="108000" y="4076640"/>
            <a:ext cx="2592360" cy="31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Acre-Ac   -Amapá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Bahia-Ba   -Ceará- 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Distrito Federal-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Goiás   -Minas Gerais- 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Pará-PA  -Paraná-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Pernambuco-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Piauí-P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Rio de Janeiro-R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Rio Grande do Norte-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Rio Grande do Sul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Santa Catarina-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Comic Sans MS"/>
              </a:rPr>
              <a:t>São Paulo-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0"/>
          <p:cNvSpPr/>
          <p:nvPr/>
        </p:nvSpPr>
        <p:spPr>
          <a:xfrm>
            <a:off x="179280" y="3716280"/>
            <a:ext cx="13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Comic Sans MS"/>
              </a:rPr>
              <a:t>ABE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tângulo 28"/>
          <p:cNvSpPr/>
          <p:nvPr/>
        </p:nvSpPr>
        <p:spPr>
          <a:xfrm>
            <a:off x="5796000" y="3213000"/>
            <a:ext cx="71280" cy="7164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tângulo 29"/>
          <p:cNvSpPr/>
          <p:nvPr/>
        </p:nvSpPr>
        <p:spPr>
          <a:xfrm>
            <a:off x="7020000" y="1925640"/>
            <a:ext cx="71280" cy="71280"/>
          </a:xfrm>
          <a:prstGeom prst="rect">
            <a:avLst/>
          </a:prstGeom>
          <a:solidFill>
            <a:srgbClr val="b0ccb0"/>
          </a:solidFill>
          <a:ln w="38160">
            <a:solidFill>
              <a:srgbClr val="3c7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7"/>
          <p:cNvSpPr/>
          <p:nvPr/>
        </p:nvSpPr>
        <p:spPr>
          <a:xfrm>
            <a:off x="5580000" y="3638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652464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7885080" y="1484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5651640" y="45752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2" descr=""/>
          <p:cNvPicPr/>
          <p:nvPr/>
        </p:nvPicPr>
        <p:blipFill>
          <a:blip r:embed="rId2"/>
          <a:stretch/>
        </p:blipFill>
        <p:spPr>
          <a:xfrm>
            <a:off x="298440" y="237960"/>
            <a:ext cx="8712360" cy="1176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250560" y="1699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8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xecutar manobras apropriadas diante de um parto com apresentação pélvica e de face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plicar vácuo-extrator ou fórceps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xecutar remoção manual da placenta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Executar compressão interna bimanual do útero para controlar hemorragia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80000"/>
              </a:lnSpc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Prescrever e/ou administrar métodos farmacológicos de alívio da dor, quando necessário.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79280" y="1700280"/>
            <a:ext cx="8686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supervisionar e fornecer cuidados de alta qualidade: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ceitável para as mulheres e suas família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 momento em que as mulhere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cessitarem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is perto de onde elas vivem e dão à luz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ntro do alcance do atendimento de emergência sempre que necessário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CaixaDeTexto 4"/>
          <p:cNvSpPr/>
          <p:nvPr/>
        </p:nvSpPr>
        <p:spPr>
          <a:xfrm>
            <a:off x="61128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841e7d"/>
                </a:solidFill>
                <a:latin typeface="Comic Sans MS"/>
              </a:rPr>
              <a:t>Parteiras competentes três</a:t>
            </a:r>
            <a:br>
              <a:rPr sz="3600"/>
            </a:br>
            <a:r>
              <a:rPr b="1" lang="pt-BR" sz="3600" spc="-1" strike="noStrike">
                <a:solidFill>
                  <a:srgbClr val="841e7d"/>
                </a:solidFill>
                <a:latin typeface="Comic Sans MS"/>
              </a:rPr>
              <a:t>funções essencia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50560" y="1844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ensinar e supervisionar outros profissionais da saúde que precisam de alguma habilidade em obstetrícia.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just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rabalhar com, educar e ajudar a empoderar as comunidades a reconhecerem a necessidade de aumentar a demanda por serviços de obstetrícia qualificados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ted Nations Population Fund/ UNFPA/2008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3" name="CaixaDeTexto 6"/>
          <p:cNvSpPr/>
          <p:nvPr/>
        </p:nvSpPr>
        <p:spPr>
          <a:xfrm>
            <a:off x="61128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841e7d"/>
                </a:solidFill>
                <a:latin typeface="Comic Sans MS"/>
              </a:rPr>
              <a:t>Parteiras competentes três</a:t>
            </a:r>
            <a:br>
              <a:rPr sz="3600"/>
            </a:br>
            <a:r>
              <a:rPr b="1" lang="pt-BR" sz="3600" spc="-1" strike="noStrike">
                <a:solidFill>
                  <a:srgbClr val="841e7d"/>
                </a:solidFill>
                <a:latin typeface="Comic Sans MS"/>
              </a:rPr>
              <a:t>funções essencia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petências para o apoio e proteção das mulheres, e busca de justiça e igualdade 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>
              <a:lnSpc>
                <a:spcPct val="80000"/>
              </a:lnSpc>
              <a:buClr>
                <a:srgbClr val="eaebd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Prover assistência às mulheres para acesso aos cuidados e serviços adequados</a:t>
            </a: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. Defendendo o livre acesso ao cuidado  materno para todas as mulheres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b. Advogando por serviços de saúde próximo aos locais onde as mulheres vivem ou por sistemas de transporte adequados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. Assegurando que todas as mulheres saibam onde buscar</a:t>
            </a:r>
            <a:r>
              <a:rPr b="1" lang="pt-BR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uidados relacionados com a gravidez, utilizar os serviços locais, e planejar a gravidez e o part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7d"/>
                </a:solidFill>
                <a:latin typeface="Comic Sans MS"/>
              </a:rPr>
              <a:t>Estrutura de Trabalho em Obstetrí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buClr>
                <a:srgbClr val="eaebde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Ajudar as mulheres a superar os obstáculos/barreiras à atenção à saúde, incluindo a defesa para remoção das iniqüidades de gênero:</a:t>
            </a: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4960" indent="-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. Trabalhando com e ouvindo as mulheres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4960" indent="-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4960" indent="-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b. Defendendo mudanças de atitudes (prejudiciais à mulheres, que se opõe à atenção à saúde sexual e reprodutiva e equidade de gênero na saúde)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4960" indent="-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4960" indent="-4572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. Fornecendo aconselhamento à comunidade e empregadores (perigos do trabalho pesado e necessidade por ambientes saudáveis). </a:t>
            </a:r>
            <a:br>
              <a:rPr sz="24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7d"/>
                </a:solidFill>
                <a:latin typeface="Comic Sans MS"/>
              </a:rPr>
              <a:t>Estrutura de Trabalho em Obstetrí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79280" y="170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. Fornecendo orientações nutricionais (crianças e adolescentes dentro e fora da escola, aos membros da família) visando, principalmente àquelas pessoas responsáveis pela alimentação da família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. Proporcionando educação em saúde em geral e sobre saúde reprodutiva, aconselhamento sobre doenças sexualmente transmissíveis, HIV / AIDS e planejamento familiar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eaebde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7d"/>
                </a:solidFill>
                <a:latin typeface="Comic Sans MS"/>
              </a:rPr>
              <a:t>Estrutura de Trabalho em Obstetrí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2364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buClr>
                <a:srgbClr val="eaebde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Ajudar as mulheres a negociar por uma atenção materna de alta qualidade: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a. Construindo ligações com a comunidade e outros membros da equipe de saúde, para determinar o melhor lugar para cada mulher para dar à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luz</a:t>
            </a: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b. Defendendo e assistindo as mulheres por meio da educação, aconselhamento, orientação e suporte, para superar as barreiras tradicionais nocivas, sem transgredir as normas culturais 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Comic Sans MS"/>
              </a:rPr>
              <a:t>c. Desenvolvendo abordagens “amistosas” na prestação de serviços, incluindo garantia de serviços que estejam disponíveis na época e local oportunos, levando em conta as necessidades especiais das mulheres grávidas.</a:t>
            </a:r>
            <a:r>
              <a:rPr b="1" lang="pt-B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7d"/>
                </a:solidFill>
                <a:latin typeface="Comic Sans MS"/>
              </a:rPr>
              <a:t>Estrutura de Trabalho em Obstetrí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buClr>
                <a:srgbClr val="eaebde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0066"/>
                </a:solidFill>
                <a:latin typeface="Comic Sans MS"/>
              </a:rPr>
              <a:t>Estabelecer e manter padrões de boa prática</a:t>
            </a:r>
            <a:r>
              <a:rPr b="0" lang="pt-BR" sz="2400" spc="-1" strike="noStrike">
                <a:solidFill>
                  <a:srgbClr val="66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. Refletindo sobre a prática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b. Assegurando constante atualização do conhecimento e da prática,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. Mantendo bons registros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d. Sendo flexível e inovadora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. trabalhando em colaboração com outros trabalhadores da saúde, incluindo médicos e trabalhadores da comunidade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1e7d"/>
                </a:solidFill>
                <a:latin typeface="Comic Sans MS"/>
              </a:rPr>
              <a:t>Estrutura de Trabalho em Obstetrí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8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6875640" y="168768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Melhorar o estatus da mul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1619280" y="140328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Baixo desenvolvimento sócioeconô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187280" y="29084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Fertilidade exces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6588000" y="2695680"/>
            <a:ext cx="21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ervicos de Planejamento Fam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659640" y="377496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Cuidados maternos na comun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6516720" y="499896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erviços de referência acessív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755640" y="508464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Complicações com risco de m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700360" y="64371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Comic Sans MS"/>
              </a:rPr>
              <a:t>M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1979640" y="38480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Comic Sans MS"/>
              </a:rPr>
              <a:t>Gravidez de auto r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aminho para Mortalidad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3:15:23Z</dcterms:created>
  <dc:creator>Rui</dc:creator>
  <dc:description/>
  <dc:language>en-US</dc:language>
  <cp:lastModifiedBy>Rui</cp:lastModifiedBy>
  <dcterms:modified xsi:type="dcterms:W3CDTF">2010-07-28T00:20:18Z</dcterms:modified>
  <cp:revision>15</cp:revision>
  <dc:subject/>
  <dc:title>Slide 1</dc:title>
</cp:coreProperties>
</file>